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3FD-211A-43C1-BA8B-5E2DF785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4AB-E260-49BB-882E-0D45422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4C1-F0FC-4F06-8661-20BDF10B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A7E-2F0F-4205-98CF-DDDC863C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3C1-28DB-4603-8E2E-9AF6B162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909-493C-400A-B1F4-11831F1F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804-4EAD-4C7B-B201-905C9B0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6B75-0BBB-47A0-8FB8-C283274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E4E7-8462-4758-AEBF-9B0B18D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2EB8-18F4-4078-A195-F0E2009B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74FB-CFC4-4017-9DFE-80035CA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A84-8CF4-4C98-84EB-BBACD59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F7C7-390B-4EF5-9173-E3EFDB6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FBD-4BC6-44CE-9C87-EDA331B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CA10-DDDA-4000-AE67-DF3B5142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6460-B8E4-47AC-9F80-193EB306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2E0-6DC1-4522-A3D5-5BAAA900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A1B-BDA4-4C99-B830-E44D1D8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12C-21FB-4BE2-BD34-066FECF3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561-2049-4B78-8EAC-6155C413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240-3DCC-4247-8B7E-D5B3A54E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A32-8258-4C93-BBCA-07AAE68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820-11E1-4AD3-B6B0-DC68EF0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376-2D51-4529-A397-F37D54B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FA2B-D3D1-4C9A-BFA7-12ACDBBCA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0B00-81C5-4A09-8FB2-851CAEC2C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2 is going on a field trip to Toby’s Dinner Theater.  Mrs.Tang is trying to create an algebraic expression to find out the total cost of the field trip.  The school must pay a down payment of $50 plus the cost of $30 per person.  What expression should Mrs. Tang wri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150 people are going, what is the total co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otal cost is $3,650 how many people are going on the field tr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857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499" y="2381"/>
                </a:moveTo>
                <a:lnTo>
                  <a:pt x="6499" y="23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5000" y="3205080"/>
            <a:ext cx="2216160" cy="411120"/>
          </a:xfrm>
          <a:custGeom>
            <a:avLst/>
            <a:gdLst/>
            <a:ahLst/>
            <a:rect l="l" t="t" r="r" b="b"/>
            <a:pathLst>
              <a:path w="6152" h="1142">
                <a:moveTo>
                  <a:pt x="6945" y="8979"/>
                </a:moveTo>
                <a:cubicBezTo>
                  <a:pt x="6820" y="9027"/>
                  <a:pt x="6522" y="8961"/>
                  <a:pt x="6424" y="9029"/>
                </a:cubicBezTo>
                <a:cubicBezTo>
                  <a:pt x="6333" y="9093"/>
                  <a:pt x="6314" y="9255"/>
                  <a:pt x="6300" y="9351"/>
                </a:cubicBezTo>
                <a:cubicBezTo>
                  <a:pt x="6420" y="9337"/>
                  <a:pt x="6520" y="9307"/>
                  <a:pt x="6648" y="9351"/>
                </a:cubicBezTo>
                <a:cubicBezTo>
                  <a:pt x="6780" y="9418"/>
                  <a:pt x="6821" y="9426"/>
                  <a:pt x="6846" y="9525"/>
                </a:cubicBezTo>
                <a:cubicBezTo>
                  <a:pt x="6744" y="9743"/>
                  <a:pt x="6550" y="9778"/>
                  <a:pt x="6300" y="9748"/>
                </a:cubicBezTo>
                <a:cubicBezTo>
                  <a:pt x="6176" y="9707"/>
                  <a:pt x="6135" y="9715"/>
                  <a:pt x="6127" y="9624"/>
                </a:cubicBezTo>
              </a:path>
              <a:path w="6152" h="1142">
                <a:moveTo>
                  <a:pt x="7342" y="9079"/>
                </a:moveTo>
                <a:cubicBezTo>
                  <a:pt x="7169" y="9105"/>
                  <a:pt x="7074" y="9194"/>
                  <a:pt x="7020" y="9376"/>
                </a:cubicBezTo>
                <a:cubicBezTo>
                  <a:pt x="6964" y="9565"/>
                  <a:pt x="6995" y="9791"/>
                  <a:pt x="7243" y="9773"/>
                </a:cubicBezTo>
                <a:cubicBezTo>
                  <a:pt x="7453" y="9758"/>
                  <a:pt x="7625" y="9537"/>
                  <a:pt x="7590" y="9327"/>
                </a:cubicBezTo>
                <a:cubicBezTo>
                  <a:pt x="7567" y="9191"/>
                  <a:pt x="7444" y="9140"/>
                  <a:pt x="7342" y="9103"/>
                </a:cubicBezTo>
                <a:cubicBezTo>
                  <a:pt x="7299" y="9082"/>
                  <a:pt x="7287" y="9069"/>
                  <a:pt x="7268" y="9103"/>
                </a:cubicBezTo>
              </a:path>
              <a:path w="6152" h="1142">
                <a:moveTo>
                  <a:pt x="8037" y="9252"/>
                </a:moveTo>
                <a:cubicBezTo>
                  <a:pt x="8048" y="9386"/>
                  <a:pt x="8062" y="9514"/>
                  <a:pt x="8062" y="9649"/>
                </a:cubicBezTo>
              </a:path>
              <a:path w="6152" h="1142">
                <a:moveTo>
                  <a:pt x="7863" y="9426"/>
                </a:moveTo>
                <a:cubicBezTo>
                  <a:pt x="8008" y="9426"/>
                  <a:pt x="8122" y="9419"/>
                  <a:pt x="8260" y="9376"/>
                </a:cubicBezTo>
              </a:path>
              <a:path w="6152" h="1142">
                <a:moveTo>
                  <a:pt x="8632" y="9029"/>
                </a:moveTo>
                <a:cubicBezTo>
                  <a:pt x="8717" y="9018"/>
                  <a:pt x="8795" y="9009"/>
                  <a:pt x="8880" y="9004"/>
                </a:cubicBezTo>
                <a:cubicBezTo>
                  <a:pt x="8847" y="9190"/>
                  <a:pt x="8788" y="9243"/>
                  <a:pt x="8632" y="9351"/>
                </a:cubicBezTo>
                <a:cubicBezTo>
                  <a:pt x="8761" y="9279"/>
                  <a:pt x="8882" y="9303"/>
                  <a:pt x="8954" y="9451"/>
                </a:cubicBezTo>
                <a:cubicBezTo>
                  <a:pt x="9050" y="9649"/>
                  <a:pt x="8850" y="9748"/>
                  <a:pt x="8682" y="9748"/>
                </a:cubicBezTo>
                <a:cubicBezTo>
                  <a:pt x="8649" y="9740"/>
                  <a:pt x="8615" y="9731"/>
                  <a:pt x="8582" y="9723"/>
                </a:cubicBezTo>
              </a:path>
              <a:path w="6152" h="1142">
                <a:moveTo>
                  <a:pt x="9079" y="9426"/>
                </a:moveTo>
                <a:cubicBezTo>
                  <a:pt x="9115" y="9517"/>
                  <a:pt x="9131" y="9617"/>
                  <a:pt x="9178" y="9699"/>
                </a:cubicBezTo>
                <a:cubicBezTo>
                  <a:pt x="9151" y="9554"/>
                  <a:pt x="9133" y="9466"/>
                  <a:pt x="9277" y="9376"/>
                </a:cubicBezTo>
                <a:cubicBezTo>
                  <a:pt x="9365" y="9321"/>
                  <a:pt x="9473" y="9376"/>
                  <a:pt x="9525" y="9451"/>
                </a:cubicBezTo>
                <a:cubicBezTo>
                  <a:pt x="9589" y="9544"/>
                  <a:pt x="9575" y="9618"/>
                  <a:pt x="9575" y="9723"/>
                </a:cubicBezTo>
              </a:path>
              <a:path w="6152" h="1142">
                <a:moveTo>
                  <a:pt x="9302" y="9103"/>
                </a:moveTo>
                <a:cubicBezTo>
                  <a:pt x="9285" y="9044"/>
                  <a:pt x="9233" y="8995"/>
                  <a:pt x="9178" y="9079"/>
                </a:cubicBezTo>
                <a:cubicBezTo>
                  <a:pt x="9075" y="9238"/>
                  <a:pt x="9064" y="9416"/>
                  <a:pt x="9054" y="9599"/>
                </a:cubicBezTo>
                <a:cubicBezTo>
                  <a:pt x="9209" y="9720"/>
                  <a:pt x="9312" y="9712"/>
                  <a:pt x="9500" y="9624"/>
                </a:cubicBezTo>
                <a:cubicBezTo>
                  <a:pt x="9610" y="9573"/>
                  <a:pt x="9619" y="9459"/>
                  <a:pt x="9624" y="9351"/>
                </a:cubicBezTo>
                <a:cubicBezTo>
                  <a:pt x="9630" y="9228"/>
                  <a:pt x="9528" y="9152"/>
                  <a:pt x="9426" y="9103"/>
                </a:cubicBezTo>
                <a:cubicBezTo>
                  <a:pt x="9358" y="9071"/>
                  <a:pt x="9300" y="9054"/>
                  <a:pt x="9227" y="9054"/>
                </a:cubicBezTo>
                <a:cubicBezTo>
                  <a:pt x="9110" y="9192"/>
                  <a:pt x="9061" y="9310"/>
                  <a:pt x="9079" y="9500"/>
                </a:cubicBezTo>
                <a:cubicBezTo>
                  <a:pt x="9096" y="9676"/>
                  <a:pt x="9267" y="9756"/>
                  <a:pt x="9426" y="9699"/>
                </a:cubicBezTo>
                <a:cubicBezTo>
                  <a:pt x="9592" y="9640"/>
                  <a:pt x="9696" y="9424"/>
                  <a:pt x="9649" y="9252"/>
                </a:cubicBezTo>
                <a:cubicBezTo>
                  <a:pt x="9620" y="9147"/>
                  <a:pt x="9470" y="9054"/>
                  <a:pt x="9376" y="9029"/>
                </a:cubicBezTo>
                <a:cubicBezTo>
                  <a:pt x="9360" y="9029"/>
                  <a:pt x="9343" y="9029"/>
                  <a:pt x="9327" y="9029"/>
                </a:cubicBezTo>
              </a:path>
              <a:path w="6152" h="1142">
                <a:moveTo>
                  <a:pt x="9823" y="9401"/>
                </a:moveTo>
                <a:cubicBezTo>
                  <a:pt x="9823" y="9492"/>
                  <a:pt x="9823" y="9583"/>
                  <a:pt x="9823" y="9674"/>
                </a:cubicBezTo>
                <a:cubicBezTo>
                  <a:pt x="9823" y="9793"/>
                  <a:pt x="9847" y="9507"/>
                  <a:pt x="9872" y="9451"/>
                </a:cubicBezTo>
                <a:cubicBezTo>
                  <a:pt x="9914" y="9359"/>
                  <a:pt x="10022" y="9318"/>
                  <a:pt x="10120" y="9327"/>
                </a:cubicBezTo>
                <a:cubicBezTo>
                  <a:pt x="10268" y="9341"/>
                  <a:pt x="10266" y="9524"/>
                  <a:pt x="10294" y="9624"/>
                </a:cubicBezTo>
                <a:cubicBezTo>
                  <a:pt x="10322" y="9679"/>
                  <a:pt x="10330" y="9702"/>
                  <a:pt x="10319" y="9748"/>
                </a:cubicBezTo>
              </a:path>
              <a:path w="6152" h="1142">
                <a:moveTo>
                  <a:pt x="10840" y="9302"/>
                </a:moveTo>
                <a:cubicBezTo>
                  <a:pt x="10964" y="9302"/>
                  <a:pt x="11088" y="9302"/>
                  <a:pt x="11212" y="9302"/>
                </a:cubicBezTo>
              </a:path>
              <a:path w="6152" h="1142">
                <a:moveTo>
                  <a:pt x="10840" y="9475"/>
                </a:moveTo>
                <a:cubicBezTo>
                  <a:pt x="10949" y="9465"/>
                  <a:pt x="11052" y="9451"/>
                  <a:pt x="11162" y="9451"/>
                </a:cubicBezTo>
              </a:path>
              <a:path w="6152" h="1142">
                <a:moveTo>
                  <a:pt x="9823" y="9947"/>
                </a:moveTo>
                <a:cubicBezTo>
                  <a:pt x="10021" y="9947"/>
                  <a:pt x="10220" y="9947"/>
                  <a:pt x="10418" y="9947"/>
                </a:cubicBezTo>
                <a:cubicBezTo>
                  <a:pt x="10284" y="9965"/>
                  <a:pt x="10158" y="9971"/>
                  <a:pt x="10021" y="9971"/>
                </a:cubicBezTo>
                <a:cubicBezTo>
                  <a:pt x="9938" y="9971"/>
                  <a:pt x="9922" y="9971"/>
                  <a:pt x="9872" y="9971"/>
                </a:cubicBezTo>
                <a:cubicBezTo>
                  <a:pt x="10011" y="9984"/>
                  <a:pt x="10186" y="9986"/>
                  <a:pt x="10319" y="10021"/>
                </a:cubicBezTo>
                <a:cubicBezTo>
                  <a:pt x="10432" y="10050"/>
                  <a:pt x="9854" y="10046"/>
                  <a:pt x="9971" y="10046"/>
                </a:cubicBezTo>
                <a:cubicBezTo>
                  <a:pt x="10088" y="10046"/>
                  <a:pt x="10202" y="10028"/>
                  <a:pt x="10319" y="10021"/>
                </a:cubicBezTo>
              </a:path>
              <a:path w="6152" h="1142">
                <a:moveTo>
                  <a:pt x="12129" y="9079"/>
                </a:moveTo>
                <a:cubicBezTo>
                  <a:pt x="12204" y="9127"/>
                  <a:pt x="12131" y="8974"/>
                  <a:pt x="12105" y="8954"/>
                </a:cubicBezTo>
                <a:cubicBezTo>
                  <a:pt x="12017" y="8885"/>
                  <a:pt x="11866" y="8875"/>
                  <a:pt x="11782" y="8954"/>
                </a:cubicBezTo>
                <a:cubicBezTo>
                  <a:pt x="11645" y="9083"/>
                  <a:pt x="11506" y="9410"/>
                  <a:pt x="11584" y="9599"/>
                </a:cubicBezTo>
                <a:cubicBezTo>
                  <a:pt x="11673" y="9814"/>
                  <a:pt x="11947" y="9750"/>
                  <a:pt x="12105" y="9699"/>
                </a:cubicBezTo>
                <a:cubicBezTo>
                  <a:pt x="12238" y="9656"/>
                  <a:pt x="12228" y="9652"/>
                  <a:pt x="12278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98800" y="4054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829" y="11261"/>
                </a:moveTo>
                <a:lnTo>
                  <a:pt x="5829" y="112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71800" y="3544920"/>
            <a:ext cx="241200" cy="11592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5755" y="10170"/>
                </a:moveTo>
                <a:cubicBezTo>
                  <a:pt x="5914" y="10116"/>
                  <a:pt x="6098" y="10123"/>
                  <a:pt x="6251" y="10046"/>
                </a:cubicBezTo>
                <a:cubicBezTo>
                  <a:pt x="6271" y="10036"/>
                  <a:pt x="6389" y="9883"/>
                  <a:pt x="6375" y="9872"/>
                </a:cubicBezTo>
                <a:cubicBezTo>
                  <a:pt x="6305" y="9819"/>
                  <a:pt x="6197" y="9860"/>
                  <a:pt x="6127" y="9872"/>
                </a:cubicBezTo>
                <a:cubicBezTo>
                  <a:pt x="6110" y="9872"/>
                  <a:pt x="6094" y="9872"/>
                  <a:pt x="6077" y="9872"/>
                </a:cubicBezTo>
                <a:cubicBezTo>
                  <a:pt x="6141" y="9872"/>
                  <a:pt x="6303" y="9841"/>
                  <a:pt x="6350" y="9897"/>
                </a:cubicBezTo>
                <a:cubicBezTo>
                  <a:pt x="6402" y="9960"/>
                  <a:pt x="6413" y="10044"/>
                  <a:pt x="6424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920" y="4268880"/>
            <a:ext cx="222120" cy="169920"/>
          </a:xfrm>
          <a:custGeom>
            <a:avLst/>
            <a:gdLst/>
            <a:ahLst/>
            <a:rect l="l" t="t" r="r" b="b"/>
            <a:pathLst>
              <a:path w="621" h="472">
                <a:moveTo>
                  <a:pt x="620" y="12105"/>
                </a:moveTo>
                <a:cubicBezTo>
                  <a:pt x="787" y="12105"/>
                  <a:pt x="949" y="12084"/>
                  <a:pt x="1116" y="12080"/>
                </a:cubicBezTo>
                <a:cubicBezTo>
                  <a:pt x="1133" y="12080"/>
                  <a:pt x="1149" y="12080"/>
                  <a:pt x="1166" y="12080"/>
                </a:cubicBezTo>
              </a:path>
              <a:path w="621" h="472">
                <a:moveTo>
                  <a:pt x="992" y="11857"/>
                </a:moveTo>
                <a:cubicBezTo>
                  <a:pt x="1056" y="11877"/>
                  <a:pt x="1250" y="11903"/>
                  <a:pt x="1240" y="12005"/>
                </a:cubicBezTo>
                <a:cubicBezTo>
                  <a:pt x="1226" y="12138"/>
                  <a:pt x="1166" y="12207"/>
                  <a:pt x="116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120" y="3224160"/>
            <a:ext cx="955800" cy="768240"/>
          </a:xfrm>
          <a:custGeom>
            <a:avLst/>
            <a:gdLst/>
            <a:ahLst/>
            <a:rect l="l" t="t" r="r" b="b"/>
            <a:pathLst>
              <a:path w="2655" h="2135">
                <a:moveTo>
                  <a:pt x="1364" y="9203"/>
                </a:moveTo>
                <a:cubicBezTo>
                  <a:pt x="1433" y="9478"/>
                  <a:pt x="1409" y="9886"/>
                  <a:pt x="1588" y="10120"/>
                </a:cubicBezTo>
                <a:cubicBezTo>
                  <a:pt x="1613" y="10128"/>
                  <a:pt x="1637" y="10137"/>
                  <a:pt x="1662" y="10145"/>
                </a:cubicBezTo>
                <a:cubicBezTo>
                  <a:pt x="1763" y="9998"/>
                  <a:pt x="1884" y="9791"/>
                  <a:pt x="1662" y="9674"/>
                </a:cubicBezTo>
                <a:cubicBezTo>
                  <a:pt x="1540" y="9610"/>
                  <a:pt x="1437" y="9667"/>
                  <a:pt x="1339" y="9723"/>
                </a:cubicBezTo>
              </a:path>
              <a:path w="2655" h="2135">
                <a:moveTo>
                  <a:pt x="1712" y="9227"/>
                </a:moveTo>
                <a:cubicBezTo>
                  <a:pt x="1811" y="9382"/>
                  <a:pt x="1848" y="9488"/>
                  <a:pt x="1860" y="9674"/>
                </a:cubicBezTo>
              </a:path>
              <a:path w="2655" h="2135">
                <a:moveTo>
                  <a:pt x="2208" y="9327"/>
                </a:moveTo>
                <a:cubicBezTo>
                  <a:pt x="2183" y="9277"/>
                  <a:pt x="2175" y="9260"/>
                  <a:pt x="2133" y="9252"/>
                </a:cubicBezTo>
                <a:cubicBezTo>
                  <a:pt x="2089" y="9305"/>
                  <a:pt x="1963" y="9462"/>
                  <a:pt x="2059" y="9525"/>
                </a:cubicBezTo>
                <a:cubicBezTo>
                  <a:pt x="2175" y="9601"/>
                  <a:pt x="2212" y="9381"/>
                  <a:pt x="2232" y="9327"/>
                </a:cubicBezTo>
                <a:cubicBezTo>
                  <a:pt x="2258" y="9403"/>
                  <a:pt x="2284" y="9428"/>
                  <a:pt x="2356" y="9475"/>
                </a:cubicBezTo>
              </a:path>
              <a:path w="2655" h="2135">
                <a:moveTo>
                  <a:pt x="2381" y="8954"/>
                </a:moveTo>
                <a:cubicBezTo>
                  <a:pt x="2481" y="9092"/>
                  <a:pt x="2558" y="9222"/>
                  <a:pt x="2629" y="9376"/>
                </a:cubicBezTo>
              </a:path>
              <a:path w="2655" h="2135">
                <a:moveTo>
                  <a:pt x="2356" y="9203"/>
                </a:moveTo>
                <a:cubicBezTo>
                  <a:pt x="2536" y="9151"/>
                  <a:pt x="2600" y="9131"/>
                  <a:pt x="2704" y="9054"/>
                </a:cubicBezTo>
              </a:path>
              <a:path w="2655" h="2135">
                <a:moveTo>
                  <a:pt x="2654" y="9649"/>
                </a:moveTo>
                <a:cubicBezTo>
                  <a:pt x="2673" y="9871"/>
                  <a:pt x="2747" y="10086"/>
                  <a:pt x="2828" y="10294"/>
                </a:cubicBezTo>
                <a:cubicBezTo>
                  <a:pt x="2872" y="10382"/>
                  <a:pt x="2876" y="10415"/>
                  <a:pt x="2952" y="10393"/>
                </a:cubicBezTo>
                <a:cubicBezTo>
                  <a:pt x="3027" y="10243"/>
                  <a:pt x="3024" y="10082"/>
                  <a:pt x="2803" y="10071"/>
                </a:cubicBezTo>
                <a:cubicBezTo>
                  <a:pt x="2770" y="10079"/>
                  <a:pt x="2737" y="10088"/>
                  <a:pt x="2704" y="10096"/>
                </a:cubicBezTo>
              </a:path>
              <a:path w="2655" h="2135">
                <a:moveTo>
                  <a:pt x="2778" y="10021"/>
                </a:moveTo>
                <a:cubicBezTo>
                  <a:pt x="2912" y="9948"/>
                  <a:pt x="3050" y="9880"/>
                  <a:pt x="3101" y="9723"/>
                </a:cubicBezTo>
                <a:cubicBezTo>
                  <a:pt x="3101" y="9650"/>
                  <a:pt x="3102" y="9626"/>
                  <a:pt x="3051" y="9599"/>
                </a:cubicBezTo>
                <a:cubicBezTo>
                  <a:pt x="2972" y="9690"/>
                  <a:pt x="2976" y="9775"/>
                  <a:pt x="3125" y="9798"/>
                </a:cubicBezTo>
                <a:cubicBezTo>
                  <a:pt x="3285" y="9822"/>
                  <a:pt x="3410" y="9696"/>
                  <a:pt x="3448" y="9550"/>
                </a:cubicBezTo>
                <a:cubicBezTo>
                  <a:pt x="3448" y="9533"/>
                  <a:pt x="3448" y="9517"/>
                  <a:pt x="3448" y="9500"/>
                </a:cubicBezTo>
                <a:cubicBezTo>
                  <a:pt x="3393" y="9515"/>
                  <a:pt x="3309" y="9678"/>
                  <a:pt x="3448" y="9649"/>
                </a:cubicBezTo>
                <a:cubicBezTo>
                  <a:pt x="3547" y="9599"/>
                  <a:pt x="3580" y="9582"/>
                  <a:pt x="3646" y="9550"/>
                </a:cubicBezTo>
              </a:path>
              <a:path w="2655" h="2135">
                <a:moveTo>
                  <a:pt x="992" y="10889"/>
                </a:moveTo>
                <a:cubicBezTo>
                  <a:pt x="1126" y="10889"/>
                  <a:pt x="1233" y="10860"/>
                  <a:pt x="1364" y="10840"/>
                </a:cubicBezTo>
                <a:cubicBezTo>
                  <a:pt x="1412" y="10833"/>
                  <a:pt x="1468" y="10817"/>
                  <a:pt x="1513" y="10815"/>
                </a:cubicBezTo>
                <a:cubicBezTo>
                  <a:pt x="1610" y="10811"/>
                  <a:pt x="1608" y="10801"/>
                  <a:pt x="1687" y="10790"/>
                </a:cubicBezTo>
              </a:path>
              <a:path w="2655" h="2135">
                <a:moveTo>
                  <a:pt x="1290" y="10616"/>
                </a:moveTo>
                <a:cubicBezTo>
                  <a:pt x="1412" y="10686"/>
                  <a:pt x="1575" y="10719"/>
                  <a:pt x="1712" y="10765"/>
                </a:cubicBezTo>
                <a:cubicBezTo>
                  <a:pt x="1873" y="10819"/>
                  <a:pt x="1755" y="10974"/>
                  <a:pt x="1712" y="11088"/>
                </a:cubicBezTo>
              </a:path>
              <a:path w="2655" h="2135">
                <a:moveTo>
                  <a:pt x="2654" y="9922"/>
                </a:moveTo>
                <a:lnTo>
                  <a:pt x="2654" y="99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1160" y="5045040"/>
            <a:ext cx="2761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2902" y="14015"/>
                </a:moveTo>
                <a:cubicBezTo>
                  <a:pt x="2753" y="14035"/>
                  <a:pt x="2672" y="14060"/>
                  <a:pt x="2604" y="14213"/>
                </a:cubicBezTo>
                <a:cubicBezTo>
                  <a:pt x="2586" y="14287"/>
                  <a:pt x="2578" y="14294"/>
                  <a:pt x="2580" y="14337"/>
                </a:cubicBezTo>
                <a:cubicBezTo>
                  <a:pt x="2671" y="14325"/>
                  <a:pt x="2799" y="14277"/>
                  <a:pt x="2828" y="14412"/>
                </a:cubicBezTo>
                <a:cubicBezTo>
                  <a:pt x="2877" y="14641"/>
                  <a:pt x="2652" y="14608"/>
                  <a:pt x="2530" y="14585"/>
                </a:cubicBezTo>
              </a:path>
              <a:path w="770" h="621">
                <a:moveTo>
                  <a:pt x="3051" y="14139"/>
                </a:moveTo>
                <a:cubicBezTo>
                  <a:pt x="3013" y="14350"/>
                  <a:pt x="2990" y="14384"/>
                  <a:pt x="3101" y="14560"/>
                </a:cubicBezTo>
                <a:cubicBezTo>
                  <a:pt x="3353" y="14504"/>
                  <a:pt x="3325" y="14421"/>
                  <a:pt x="320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20840" y="5089680"/>
            <a:ext cx="117360" cy="14436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3820" y="14139"/>
                </a:moveTo>
                <a:cubicBezTo>
                  <a:pt x="3820" y="14271"/>
                  <a:pt x="3820" y="14404"/>
                  <a:pt x="3820" y="14536"/>
                </a:cubicBezTo>
              </a:path>
              <a:path w="324" h="398">
                <a:moveTo>
                  <a:pt x="3671" y="14312"/>
                </a:moveTo>
                <a:cubicBezTo>
                  <a:pt x="3846" y="14291"/>
                  <a:pt x="3888" y="14288"/>
                  <a:pt x="3994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98760" y="5037120"/>
            <a:ext cx="1071360" cy="374760"/>
          </a:xfrm>
          <a:custGeom>
            <a:avLst/>
            <a:gdLst/>
            <a:ahLst/>
            <a:rect l="l" t="t" r="r" b="b"/>
            <a:pathLst>
              <a:path w="2978" h="1043">
                <a:moveTo>
                  <a:pt x="4564" y="14114"/>
                </a:moveTo>
                <a:cubicBezTo>
                  <a:pt x="4607" y="14221"/>
                  <a:pt x="4651" y="14057"/>
                  <a:pt x="4762" y="14114"/>
                </a:cubicBezTo>
                <a:cubicBezTo>
                  <a:pt x="4902" y="14186"/>
                  <a:pt x="4835" y="14365"/>
                  <a:pt x="4713" y="14412"/>
                </a:cubicBezTo>
                <a:cubicBezTo>
                  <a:pt x="4688" y="14412"/>
                  <a:pt x="4663" y="14412"/>
                  <a:pt x="4638" y="14412"/>
                </a:cubicBezTo>
                <a:cubicBezTo>
                  <a:pt x="4823" y="14444"/>
                  <a:pt x="4895" y="14565"/>
                  <a:pt x="4663" y="14684"/>
                </a:cubicBezTo>
                <a:cubicBezTo>
                  <a:pt x="4540" y="14709"/>
                  <a:pt x="4499" y="14718"/>
                  <a:pt x="4440" y="14635"/>
                </a:cubicBezTo>
              </a:path>
              <a:path w="2978" h="1043">
                <a:moveTo>
                  <a:pt x="5184" y="14064"/>
                </a:moveTo>
                <a:cubicBezTo>
                  <a:pt x="5042" y="14246"/>
                  <a:pt x="5011" y="14388"/>
                  <a:pt x="4986" y="14610"/>
                </a:cubicBezTo>
                <a:cubicBezTo>
                  <a:pt x="5146" y="14699"/>
                  <a:pt x="5427" y="14698"/>
                  <a:pt x="5383" y="14387"/>
                </a:cubicBezTo>
                <a:cubicBezTo>
                  <a:pt x="5304" y="14257"/>
                  <a:pt x="5273" y="14212"/>
                  <a:pt x="5159" y="14188"/>
                </a:cubicBezTo>
              </a:path>
              <a:path w="2978" h="1043">
                <a:moveTo>
                  <a:pt x="5705" y="14089"/>
                </a:moveTo>
                <a:cubicBezTo>
                  <a:pt x="5571" y="14223"/>
                  <a:pt x="5507" y="14435"/>
                  <a:pt x="5507" y="14635"/>
                </a:cubicBezTo>
                <a:cubicBezTo>
                  <a:pt x="5507" y="14765"/>
                  <a:pt x="5561" y="14767"/>
                  <a:pt x="5655" y="14784"/>
                </a:cubicBezTo>
              </a:path>
              <a:path w="2978" h="1043">
                <a:moveTo>
                  <a:pt x="5928" y="14163"/>
                </a:moveTo>
                <a:cubicBezTo>
                  <a:pt x="5906" y="14353"/>
                  <a:pt x="5864" y="14544"/>
                  <a:pt x="5829" y="14734"/>
                </a:cubicBezTo>
              </a:path>
              <a:path w="2978" h="1043">
                <a:moveTo>
                  <a:pt x="6449" y="14139"/>
                </a:moveTo>
                <a:cubicBezTo>
                  <a:pt x="6351" y="14204"/>
                  <a:pt x="6263" y="14241"/>
                  <a:pt x="6226" y="14362"/>
                </a:cubicBezTo>
                <a:cubicBezTo>
                  <a:pt x="6226" y="14379"/>
                  <a:pt x="6226" y="14395"/>
                  <a:pt x="6226" y="14412"/>
                </a:cubicBezTo>
                <a:cubicBezTo>
                  <a:pt x="6300" y="14382"/>
                  <a:pt x="6396" y="14260"/>
                  <a:pt x="6499" y="14312"/>
                </a:cubicBezTo>
                <a:cubicBezTo>
                  <a:pt x="6670" y="14399"/>
                  <a:pt x="6487" y="14649"/>
                  <a:pt x="6375" y="14684"/>
                </a:cubicBezTo>
                <a:cubicBezTo>
                  <a:pt x="6268" y="14684"/>
                  <a:pt x="6230" y="14677"/>
                  <a:pt x="6201" y="14585"/>
                </a:cubicBezTo>
              </a:path>
              <a:path w="2978" h="1043">
                <a:moveTo>
                  <a:pt x="6871" y="14188"/>
                </a:moveTo>
                <a:cubicBezTo>
                  <a:pt x="6819" y="14343"/>
                  <a:pt x="6803" y="14475"/>
                  <a:pt x="6821" y="14635"/>
                </a:cubicBezTo>
                <a:cubicBezTo>
                  <a:pt x="6955" y="14643"/>
                  <a:pt x="7287" y="14573"/>
                  <a:pt x="7193" y="14337"/>
                </a:cubicBezTo>
                <a:cubicBezTo>
                  <a:pt x="7077" y="14245"/>
                  <a:pt x="7047" y="14214"/>
                  <a:pt x="6945" y="14213"/>
                </a:cubicBezTo>
              </a:path>
              <a:path w="2978" h="1043">
                <a:moveTo>
                  <a:pt x="7243" y="13990"/>
                </a:moveTo>
                <a:cubicBezTo>
                  <a:pt x="7434" y="14309"/>
                  <a:pt x="7461" y="14532"/>
                  <a:pt x="7293" y="14883"/>
                </a:cubicBezTo>
                <a:cubicBezTo>
                  <a:pt x="7260" y="14933"/>
                  <a:pt x="7226" y="14982"/>
                  <a:pt x="719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8960" y="5473800"/>
            <a:ext cx="652320" cy="260280"/>
          </a:xfrm>
          <a:custGeom>
            <a:avLst/>
            <a:gdLst/>
            <a:ahLst/>
            <a:rect l="l" t="t" r="r" b="b"/>
            <a:pathLst>
              <a:path w="1811" h="721">
                <a:moveTo>
                  <a:pt x="5011" y="15255"/>
                </a:moveTo>
                <a:cubicBezTo>
                  <a:pt x="4959" y="15345"/>
                  <a:pt x="4921" y="15429"/>
                  <a:pt x="4887" y="15528"/>
                </a:cubicBezTo>
                <a:cubicBezTo>
                  <a:pt x="4977" y="15528"/>
                  <a:pt x="5047" y="15520"/>
                  <a:pt x="5135" y="15503"/>
                </a:cubicBezTo>
              </a:path>
              <a:path w="1811" h="721">
                <a:moveTo>
                  <a:pt x="5135" y="15205"/>
                </a:moveTo>
                <a:cubicBezTo>
                  <a:pt x="5114" y="15404"/>
                  <a:pt x="5100" y="15602"/>
                  <a:pt x="5085" y="15801"/>
                </a:cubicBezTo>
              </a:path>
              <a:path w="1811" h="721">
                <a:moveTo>
                  <a:pt x="5680" y="15205"/>
                </a:moveTo>
                <a:cubicBezTo>
                  <a:pt x="5526" y="15250"/>
                  <a:pt x="5518" y="15276"/>
                  <a:pt x="5457" y="15429"/>
                </a:cubicBezTo>
                <a:cubicBezTo>
                  <a:pt x="5449" y="15454"/>
                  <a:pt x="5440" y="15478"/>
                  <a:pt x="5432" y="15503"/>
                </a:cubicBezTo>
                <a:cubicBezTo>
                  <a:pt x="5545" y="15447"/>
                  <a:pt x="5773" y="15339"/>
                  <a:pt x="5755" y="15577"/>
                </a:cubicBezTo>
                <a:cubicBezTo>
                  <a:pt x="5704" y="15704"/>
                  <a:pt x="5684" y="15748"/>
                  <a:pt x="5581" y="15776"/>
                </a:cubicBezTo>
              </a:path>
              <a:path w="1811" h="721">
                <a:moveTo>
                  <a:pt x="5259" y="15825"/>
                </a:moveTo>
                <a:cubicBezTo>
                  <a:pt x="5267" y="15858"/>
                  <a:pt x="5275" y="15892"/>
                  <a:pt x="5283" y="15925"/>
                </a:cubicBezTo>
              </a:path>
              <a:path w="1811" h="721">
                <a:moveTo>
                  <a:pt x="5928" y="15404"/>
                </a:moveTo>
                <a:cubicBezTo>
                  <a:pt x="5756" y="15519"/>
                  <a:pt x="5751" y="15608"/>
                  <a:pt x="5804" y="15801"/>
                </a:cubicBezTo>
                <a:cubicBezTo>
                  <a:pt x="5930" y="15794"/>
                  <a:pt x="6262" y="15679"/>
                  <a:pt x="6052" y="15478"/>
                </a:cubicBezTo>
                <a:cubicBezTo>
                  <a:pt x="6011" y="15462"/>
                  <a:pt x="5969" y="15445"/>
                  <a:pt x="5928" y="15429"/>
                </a:cubicBezTo>
              </a:path>
              <a:path w="1811" h="721">
                <a:moveTo>
                  <a:pt x="6350" y="15404"/>
                </a:moveTo>
                <a:cubicBezTo>
                  <a:pt x="6293" y="15629"/>
                  <a:pt x="6256" y="15844"/>
                  <a:pt x="6573" y="15726"/>
                </a:cubicBezTo>
                <a:cubicBezTo>
                  <a:pt x="6833" y="15629"/>
                  <a:pt x="6664" y="15543"/>
                  <a:pt x="6548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760" y="5126040"/>
            <a:ext cx="2854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1191" y="14536"/>
                </a:moveTo>
                <a:cubicBezTo>
                  <a:pt x="1389" y="14536"/>
                  <a:pt x="1588" y="14536"/>
                  <a:pt x="1786" y="14536"/>
                </a:cubicBezTo>
              </a:path>
              <a:path w="794" h="671">
                <a:moveTo>
                  <a:pt x="1488" y="14238"/>
                </a:moveTo>
                <a:cubicBezTo>
                  <a:pt x="1620" y="14257"/>
                  <a:pt x="1786" y="14349"/>
                  <a:pt x="1910" y="14412"/>
                </a:cubicBezTo>
                <a:cubicBezTo>
                  <a:pt x="1935" y="14428"/>
                  <a:pt x="1959" y="14445"/>
                  <a:pt x="1984" y="14461"/>
                </a:cubicBezTo>
                <a:cubicBezTo>
                  <a:pt x="1920" y="14611"/>
                  <a:pt x="1800" y="14762"/>
                  <a:pt x="1712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6160" y="5545080"/>
            <a:ext cx="1268640" cy="669960"/>
          </a:xfrm>
          <a:custGeom>
            <a:avLst/>
            <a:gdLst/>
            <a:ahLst/>
            <a:rect l="l" t="t" r="r" b="b"/>
            <a:pathLst>
              <a:path w="3523" h="1861">
                <a:moveTo>
                  <a:pt x="4093" y="15602"/>
                </a:moveTo>
                <a:cubicBezTo>
                  <a:pt x="4071" y="15710"/>
                  <a:pt x="4068" y="15737"/>
                  <a:pt x="4043" y="15801"/>
                </a:cubicBezTo>
              </a:path>
              <a:path w="3523" h="1861">
                <a:moveTo>
                  <a:pt x="3746" y="15701"/>
                </a:moveTo>
                <a:cubicBezTo>
                  <a:pt x="3919" y="15652"/>
                  <a:pt x="3977" y="15635"/>
                  <a:pt x="4093" y="15602"/>
                </a:cubicBezTo>
              </a:path>
              <a:path w="3523" h="1861">
                <a:moveTo>
                  <a:pt x="2778" y="15404"/>
                </a:moveTo>
                <a:cubicBezTo>
                  <a:pt x="2638" y="15455"/>
                  <a:pt x="2637" y="15475"/>
                  <a:pt x="2629" y="15627"/>
                </a:cubicBezTo>
                <a:cubicBezTo>
                  <a:pt x="2629" y="15635"/>
                  <a:pt x="2629" y="15644"/>
                  <a:pt x="2629" y="15652"/>
                </a:cubicBezTo>
                <a:cubicBezTo>
                  <a:pt x="2727" y="15679"/>
                  <a:pt x="2838" y="15664"/>
                  <a:pt x="2927" y="15701"/>
                </a:cubicBezTo>
                <a:cubicBezTo>
                  <a:pt x="2882" y="15869"/>
                  <a:pt x="2794" y="15826"/>
                  <a:pt x="2629" y="15801"/>
                </a:cubicBezTo>
              </a:path>
              <a:path w="3523" h="1861">
                <a:moveTo>
                  <a:pt x="3274" y="15453"/>
                </a:moveTo>
                <a:cubicBezTo>
                  <a:pt x="3245" y="15530"/>
                  <a:pt x="3110" y="15726"/>
                  <a:pt x="3249" y="15801"/>
                </a:cubicBezTo>
                <a:cubicBezTo>
                  <a:pt x="3439" y="15903"/>
                  <a:pt x="3497" y="15688"/>
                  <a:pt x="3423" y="15577"/>
                </a:cubicBezTo>
              </a:path>
              <a:path w="3523" h="1861">
                <a:moveTo>
                  <a:pt x="3101" y="16570"/>
                </a:moveTo>
                <a:cubicBezTo>
                  <a:pt x="3073" y="16645"/>
                  <a:pt x="3058" y="16713"/>
                  <a:pt x="3051" y="16793"/>
                </a:cubicBezTo>
                <a:cubicBezTo>
                  <a:pt x="3191" y="16846"/>
                  <a:pt x="3309" y="16798"/>
                  <a:pt x="3448" y="16743"/>
                </a:cubicBezTo>
              </a:path>
              <a:path w="3523" h="1861">
                <a:moveTo>
                  <a:pt x="3547" y="16495"/>
                </a:moveTo>
                <a:cubicBezTo>
                  <a:pt x="3507" y="16735"/>
                  <a:pt x="3499" y="16973"/>
                  <a:pt x="3473" y="17214"/>
                </a:cubicBezTo>
              </a:path>
              <a:path w="3523" h="1861">
                <a:moveTo>
                  <a:pt x="3746" y="17090"/>
                </a:moveTo>
                <a:cubicBezTo>
                  <a:pt x="3768" y="17182"/>
                  <a:pt x="3779" y="17207"/>
                  <a:pt x="3746" y="17264"/>
                </a:cubicBezTo>
              </a:path>
              <a:path w="3523" h="1861">
                <a:moveTo>
                  <a:pt x="4291" y="16570"/>
                </a:moveTo>
                <a:cubicBezTo>
                  <a:pt x="4213" y="16646"/>
                  <a:pt x="4167" y="16705"/>
                  <a:pt x="4118" y="16793"/>
                </a:cubicBezTo>
                <a:cubicBezTo>
                  <a:pt x="4258" y="16773"/>
                  <a:pt x="4440" y="16675"/>
                  <a:pt x="4539" y="16842"/>
                </a:cubicBezTo>
                <a:cubicBezTo>
                  <a:pt x="4539" y="16867"/>
                  <a:pt x="4539" y="16892"/>
                  <a:pt x="4539" y="16917"/>
                </a:cubicBezTo>
                <a:cubicBezTo>
                  <a:pt x="4359" y="17021"/>
                  <a:pt x="4279" y="16986"/>
                  <a:pt x="4118" y="16867"/>
                </a:cubicBezTo>
              </a:path>
              <a:path w="3523" h="1861">
                <a:moveTo>
                  <a:pt x="4862" y="16520"/>
                </a:moveTo>
                <a:cubicBezTo>
                  <a:pt x="4836" y="16578"/>
                  <a:pt x="4813" y="16636"/>
                  <a:pt x="4787" y="16694"/>
                </a:cubicBezTo>
                <a:cubicBezTo>
                  <a:pt x="4902" y="16705"/>
                  <a:pt x="4985" y="16717"/>
                  <a:pt x="5060" y="16793"/>
                </a:cubicBezTo>
                <a:cubicBezTo>
                  <a:pt x="4955" y="16928"/>
                  <a:pt x="4960" y="16927"/>
                  <a:pt x="4787" y="16917"/>
                </a:cubicBezTo>
              </a:path>
              <a:path w="3523" h="1861">
                <a:moveTo>
                  <a:pt x="4862" y="16520"/>
                </a:moveTo>
                <a:cubicBezTo>
                  <a:pt x="5037" y="16520"/>
                  <a:pt x="5148" y="16533"/>
                  <a:pt x="5308" y="16594"/>
                </a:cubicBezTo>
              </a:path>
              <a:path w="3523" h="1861">
                <a:moveTo>
                  <a:pt x="5556" y="16594"/>
                </a:moveTo>
                <a:cubicBezTo>
                  <a:pt x="5459" y="16627"/>
                  <a:pt x="5300" y="16743"/>
                  <a:pt x="5283" y="16867"/>
                </a:cubicBezTo>
                <a:cubicBezTo>
                  <a:pt x="5291" y="16900"/>
                  <a:pt x="5300" y="16933"/>
                  <a:pt x="5308" y="16966"/>
                </a:cubicBezTo>
                <a:cubicBezTo>
                  <a:pt x="5416" y="16998"/>
                  <a:pt x="5741" y="17005"/>
                  <a:pt x="5680" y="16768"/>
                </a:cubicBezTo>
                <a:cubicBezTo>
                  <a:pt x="5647" y="16735"/>
                  <a:pt x="5614" y="16702"/>
                  <a:pt x="5581" y="16669"/>
                </a:cubicBezTo>
              </a:path>
              <a:path w="3523" h="1861">
                <a:moveTo>
                  <a:pt x="4266" y="16619"/>
                </a:moveTo>
                <a:cubicBezTo>
                  <a:pt x="4359" y="16593"/>
                  <a:pt x="4443" y="16577"/>
                  <a:pt x="4539" y="16570"/>
                </a:cubicBezTo>
              </a:path>
              <a:path w="3523" h="1861">
                <a:moveTo>
                  <a:pt x="2480" y="16594"/>
                </a:moveTo>
                <a:cubicBezTo>
                  <a:pt x="2413" y="16594"/>
                  <a:pt x="2380" y="16598"/>
                  <a:pt x="2332" y="16619"/>
                </a:cubicBezTo>
                <a:cubicBezTo>
                  <a:pt x="2388" y="16664"/>
                  <a:pt x="2578" y="16731"/>
                  <a:pt x="2505" y="16818"/>
                </a:cubicBezTo>
                <a:cubicBezTo>
                  <a:pt x="2407" y="16934"/>
                  <a:pt x="2222" y="16801"/>
                  <a:pt x="2158" y="16743"/>
                </a:cubicBezTo>
              </a:path>
              <a:path w="3523" h="1861">
                <a:moveTo>
                  <a:pt x="2356" y="16446"/>
                </a:moveTo>
                <a:cubicBezTo>
                  <a:pt x="2433" y="16613"/>
                  <a:pt x="2467" y="16756"/>
                  <a:pt x="2480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9800" y="4884840"/>
            <a:ext cx="366480" cy="258840"/>
          </a:xfrm>
          <a:custGeom>
            <a:avLst/>
            <a:gdLst/>
            <a:ahLst/>
            <a:rect l="l" t="t" r="r" b="b"/>
            <a:pathLst>
              <a:path w="1018" h="721">
                <a:moveTo>
                  <a:pt x="15379" y="13618"/>
                </a:moveTo>
                <a:cubicBezTo>
                  <a:pt x="15130" y="13696"/>
                  <a:pt x="15156" y="13661"/>
                  <a:pt x="15156" y="13940"/>
                </a:cubicBezTo>
                <a:cubicBezTo>
                  <a:pt x="15156" y="14023"/>
                  <a:pt x="15156" y="14039"/>
                  <a:pt x="15156" y="14089"/>
                </a:cubicBezTo>
                <a:cubicBezTo>
                  <a:pt x="15277" y="13923"/>
                  <a:pt x="15334" y="13882"/>
                  <a:pt x="15528" y="13965"/>
                </a:cubicBezTo>
                <a:cubicBezTo>
                  <a:pt x="15485" y="14079"/>
                  <a:pt x="15273" y="14496"/>
                  <a:pt x="15081" y="14238"/>
                </a:cubicBezTo>
                <a:cubicBezTo>
                  <a:pt x="15073" y="14188"/>
                  <a:pt x="15064" y="14139"/>
                  <a:pt x="15056" y="14089"/>
                </a:cubicBezTo>
              </a:path>
              <a:path w="1018" h="721">
                <a:moveTo>
                  <a:pt x="15801" y="13568"/>
                </a:moveTo>
                <a:cubicBezTo>
                  <a:pt x="15714" y="13741"/>
                  <a:pt x="15582" y="13996"/>
                  <a:pt x="15701" y="14188"/>
                </a:cubicBezTo>
                <a:cubicBezTo>
                  <a:pt x="15734" y="14205"/>
                  <a:pt x="15768" y="14221"/>
                  <a:pt x="15801" y="14238"/>
                </a:cubicBezTo>
                <a:cubicBezTo>
                  <a:pt x="15995" y="14127"/>
                  <a:pt x="16250" y="13916"/>
                  <a:pt x="15974" y="13692"/>
                </a:cubicBezTo>
                <a:cubicBezTo>
                  <a:pt x="15916" y="13667"/>
                  <a:pt x="15859" y="13643"/>
                  <a:pt x="15801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29200" y="4848120"/>
            <a:ext cx="849600" cy="3319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16991" y="14114"/>
                </a:moveTo>
                <a:lnTo>
                  <a:pt x="16991" y="14114"/>
                </a:lnTo>
              </a:path>
              <a:path w="2358" h="919">
                <a:moveTo>
                  <a:pt x="16991" y="14114"/>
                </a:moveTo>
                <a:lnTo>
                  <a:pt x="16991" y="14114"/>
                </a:lnTo>
              </a:path>
              <a:path w="2358" h="919">
                <a:moveTo>
                  <a:pt x="16718" y="14387"/>
                </a:moveTo>
                <a:lnTo>
                  <a:pt x="16718" y="14387"/>
                </a:lnTo>
              </a:path>
              <a:path w="2358" h="919">
                <a:moveTo>
                  <a:pt x="16570" y="13717"/>
                </a:moveTo>
                <a:cubicBezTo>
                  <a:pt x="16570" y="13653"/>
                  <a:pt x="16569" y="13653"/>
                  <a:pt x="16594" y="13593"/>
                </a:cubicBezTo>
                <a:cubicBezTo>
                  <a:pt x="16643" y="13725"/>
                  <a:pt x="16668" y="13849"/>
                  <a:pt x="16694" y="13990"/>
                </a:cubicBezTo>
              </a:path>
              <a:path w="2358" h="919">
                <a:moveTo>
                  <a:pt x="16470" y="13891"/>
                </a:moveTo>
                <a:cubicBezTo>
                  <a:pt x="16653" y="13859"/>
                  <a:pt x="16836" y="13815"/>
                  <a:pt x="17016" y="13791"/>
                </a:cubicBezTo>
              </a:path>
              <a:path w="2358" h="919">
                <a:moveTo>
                  <a:pt x="17239" y="13469"/>
                </a:moveTo>
                <a:cubicBezTo>
                  <a:pt x="17409" y="13469"/>
                  <a:pt x="17580" y="13486"/>
                  <a:pt x="17438" y="13717"/>
                </a:cubicBezTo>
                <a:cubicBezTo>
                  <a:pt x="17397" y="13758"/>
                  <a:pt x="17355" y="13800"/>
                  <a:pt x="17314" y="13841"/>
                </a:cubicBezTo>
                <a:cubicBezTo>
                  <a:pt x="17297" y="13858"/>
                  <a:pt x="17281" y="13874"/>
                  <a:pt x="17264" y="13891"/>
                </a:cubicBezTo>
                <a:cubicBezTo>
                  <a:pt x="17394" y="13858"/>
                  <a:pt x="17626" y="13875"/>
                  <a:pt x="17487" y="14089"/>
                </a:cubicBezTo>
                <a:cubicBezTo>
                  <a:pt x="17374" y="14263"/>
                  <a:pt x="17232" y="14256"/>
                  <a:pt x="17066" y="14188"/>
                </a:cubicBezTo>
              </a:path>
              <a:path w="2358" h="919">
                <a:moveTo>
                  <a:pt x="17735" y="13494"/>
                </a:moveTo>
                <a:cubicBezTo>
                  <a:pt x="17606" y="13634"/>
                  <a:pt x="17507" y="13895"/>
                  <a:pt x="17636" y="14089"/>
                </a:cubicBezTo>
                <a:cubicBezTo>
                  <a:pt x="17824" y="14372"/>
                  <a:pt x="18163" y="13909"/>
                  <a:pt x="18157" y="13717"/>
                </a:cubicBezTo>
                <a:cubicBezTo>
                  <a:pt x="18086" y="13599"/>
                  <a:pt x="18067" y="13561"/>
                  <a:pt x="17983" y="13519"/>
                </a:cubicBezTo>
              </a:path>
              <a:path w="2358" h="919">
                <a:moveTo>
                  <a:pt x="18331" y="13841"/>
                </a:moveTo>
                <a:cubicBezTo>
                  <a:pt x="18413" y="13861"/>
                  <a:pt x="18354" y="14015"/>
                  <a:pt x="18405" y="14114"/>
                </a:cubicBezTo>
                <a:cubicBezTo>
                  <a:pt x="18459" y="14220"/>
                  <a:pt x="18378" y="13830"/>
                  <a:pt x="18479" y="13767"/>
                </a:cubicBezTo>
                <a:cubicBezTo>
                  <a:pt x="18643" y="13665"/>
                  <a:pt x="18796" y="13939"/>
                  <a:pt x="18827" y="14064"/>
                </a:cubicBezTo>
                <a:cubicBezTo>
                  <a:pt x="18827" y="14147"/>
                  <a:pt x="18827" y="14163"/>
                  <a:pt x="18827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6920" y="4759200"/>
            <a:ext cx="982800" cy="438120"/>
          </a:xfrm>
          <a:custGeom>
            <a:avLst/>
            <a:gdLst/>
            <a:ahLst/>
            <a:rect l="l" t="t" r="r" b="b"/>
            <a:pathLst>
              <a:path w="2730" h="1216">
                <a:moveTo>
                  <a:pt x="19323" y="13791"/>
                </a:moveTo>
                <a:cubicBezTo>
                  <a:pt x="19428" y="13808"/>
                  <a:pt x="19515" y="13816"/>
                  <a:pt x="19621" y="13816"/>
                </a:cubicBezTo>
              </a:path>
              <a:path w="2730" h="1216">
                <a:moveTo>
                  <a:pt x="19298" y="14015"/>
                </a:moveTo>
                <a:cubicBezTo>
                  <a:pt x="19388" y="13992"/>
                  <a:pt x="19412" y="13984"/>
                  <a:pt x="19472" y="13990"/>
                </a:cubicBezTo>
              </a:path>
              <a:path w="2730" h="1216">
                <a:moveTo>
                  <a:pt x="19968" y="13444"/>
                </a:moveTo>
                <a:cubicBezTo>
                  <a:pt x="20126" y="13397"/>
                  <a:pt x="20394" y="13367"/>
                  <a:pt x="20216" y="13643"/>
                </a:cubicBezTo>
                <a:cubicBezTo>
                  <a:pt x="20183" y="13668"/>
                  <a:pt x="20150" y="13692"/>
                  <a:pt x="20117" y="13717"/>
                </a:cubicBezTo>
                <a:cubicBezTo>
                  <a:pt x="20278" y="13694"/>
                  <a:pt x="20265" y="13698"/>
                  <a:pt x="20365" y="13816"/>
                </a:cubicBezTo>
                <a:cubicBezTo>
                  <a:pt x="20196" y="14008"/>
                  <a:pt x="20148" y="14056"/>
                  <a:pt x="19918" y="13940"/>
                </a:cubicBezTo>
              </a:path>
              <a:path w="2730" h="1216">
                <a:moveTo>
                  <a:pt x="20563" y="13419"/>
                </a:moveTo>
                <a:cubicBezTo>
                  <a:pt x="20542" y="13574"/>
                  <a:pt x="20443" y="13898"/>
                  <a:pt x="20563" y="14039"/>
                </a:cubicBezTo>
                <a:cubicBezTo>
                  <a:pt x="20731" y="14236"/>
                  <a:pt x="20891" y="13957"/>
                  <a:pt x="20960" y="13841"/>
                </a:cubicBezTo>
                <a:cubicBezTo>
                  <a:pt x="20793" y="13841"/>
                  <a:pt x="20792" y="13881"/>
                  <a:pt x="20712" y="14039"/>
                </a:cubicBezTo>
              </a:path>
              <a:path w="2730" h="1216">
                <a:moveTo>
                  <a:pt x="21332" y="13246"/>
                </a:moveTo>
                <a:cubicBezTo>
                  <a:pt x="21261" y="13256"/>
                  <a:pt x="21151" y="13252"/>
                  <a:pt x="21109" y="13320"/>
                </a:cubicBezTo>
                <a:cubicBezTo>
                  <a:pt x="21072" y="13379"/>
                  <a:pt x="21045" y="13456"/>
                  <a:pt x="21010" y="13519"/>
                </a:cubicBezTo>
                <a:cubicBezTo>
                  <a:pt x="21139" y="13499"/>
                  <a:pt x="21263" y="13412"/>
                  <a:pt x="21382" y="13519"/>
                </a:cubicBezTo>
                <a:cubicBezTo>
                  <a:pt x="21541" y="13662"/>
                  <a:pt x="21404" y="13851"/>
                  <a:pt x="21233" y="13891"/>
                </a:cubicBezTo>
                <a:cubicBezTo>
                  <a:pt x="21120" y="13891"/>
                  <a:pt x="21088" y="13897"/>
                  <a:pt x="21034" y="13841"/>
                </a:cubicBezTo>
              </a:path>
              <a:path w="2730" h="1216">
                <a:moveTo>
                  <a:pt x="21704" y="13221"/>
                </a:moveTo>
                <a:cubicBezTo>
                  <a:pt x="21590" y="13478"/>
                  <a:pt x="21521" y="13644"/>
                  <a:pt x="21580" y="13915"/>
                </a:cubicBezTo>
                <a:cubicBezTo>
                  <a:pt x="21792" y="13873"/>
                  <a:pt x="22172" y="13711"/>
                  <a:pt x="22002" y="13395"/>
                </a:cubicBezTo>
                <a:cubicBezTo>
                  <a:pt x="21952" y="13362"/>
                  <a:pt x="21903" y="13328"/>
                  <a:pt x="21853" y="13295"/>
                </a:cubicBezTo>
              </a:path>
              <a:path w="2730" h="1216">
                <a:moveTo>
                  <a:pt x="20464" y="14288"/>
                </a:moveTo>
                <a:cubicBezTo>
                  <a:pt x="20374" y="14284"/>
                  <a:pt x="20435" y="14358"/>
                  <a:pt x="20389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56280" y="5089680"/>
            <a:ext cx="1036800" cy="285480"/>
          </a:xfrm>
          <a:custGeom>
            <a:avLst/>
            <a:gdLst/>
            <a:ahLst/>
            <a:rect l="l" t="t" r="r" b="b"/>
            <a:pathLst>
              <a:path w="2878" h="794">
                <a:moveTo>
                  <a:pt x="20687" y="14486"/>
                </a:moveTo>
                <a:cubicBezTo>
                  <a:pt x="20787" y="14486"/>
                  <a:pt x="20822" y="14486"/>
                  <a:pt x="20886" y="14461"/>
                </a:cubicBezTo>
              </a:path>
              <a:path w="2878" h="794">
                <a:moveTo>
                  <a:pt x="21357" y="14188"/>
                </a:moveTo>
                <a:cubicBezTo>
                  <a:pt x="21296" y="14239"/>
                  <a:pt x="21258" y="14276"/>
                  <a:pt x="21208" y="14337"/>
                </a:cubicBezTo>
                <a:cubicBezTo>
                  <a:pt x="21230" y="14493"/>
                  <a:pt x="21358" y="14315"/>
                  <a:pt x="21481" y="14312"/>
                </a:cubicBezTo>
                <a:cubicBezTo>
                  <a:pt x="21514" y="14320"/>
                  <a:pt x="21547" y="14329"/>
                  <a:pt x="21580" y="14337"/>
                </a:cubicBezTo>
                <a:cubicBezTo>
                  <a:pt x="21589" y="14430"/>
                  <a:pt x="21492" y="14664"/>
                  <a:pt x="21332" y="14560"/>
                </a:cubicBezTo>
                <a:cubicBezTo>
                  <a:pt x="21307" y="14519"/>
                  <a:pt x="21283" y="14477"/>
                  <a:pt x="21258" y="14436"/>
                </a:cubicBezTo>
              </a:path>
              <a:path w="2878" h="794">
                <a:moveTo>
                  <a:pt x="21729" y="14139"/>
                </a:moveTo>
                <a:cubicBezTo>
                  <a:pt x="21683" y="14253"/>
                  <a:pt x="21679" y="14332"/>
                  <a:pt x="21679" y="14461"/>
                </a:cubicBezTo>
                <a:cubicBezTo>
                  <a:pt x="21797" y="14503"/>
                  <a:pt x="22058" y="14483"/>
                  <a:pt x="22002" y="14263"/>
                </a:cubicBezTo>
                <a:cubicBezTo>
                  <a:pt x="21917" y="14178"/>
                  <a:pt x="21877" y="14155"/>
                  <a:pt x="21779" y="14213"/>
                </a:cubicBezTo>
              </a:path>
              <a:path w="2878" h="794">
                <a:moveTo>
                  <a:pt x="19323" y="14932"/>
                </a:moveTo>
                <a:cubicBezTo>
                  <a:pt x="19768" y="14912"/>
                  <a:pt x="20218" y="14888"/>
                  <a:pt x="20662" y="14858"/>
                </a:cubicBezTo>
                <a:cubicBezTo>
                  <a:pt x="21178" y="14823"/>
                  <a:pt x="21683" y="14759"/>
                  <a:pt x="22200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8120" y="5340240"/>
            <a:ext cx="812880" cy="419040"/>
          </a:xfrm>
          <a:custGeom>
            <a:avLst/>
            <a:gdLst/>
            <a:ahLst/>
            <a:rect l="l" t="t" r="r" b="b"/>
            <a:pathLst>
              <a:path w="2259" h="1167">
                <a:moveTo>
                  <a:pt x="18628" y="14883"/>
                </a:moveTo>
                <a:cubicBezTo>
                  <a:pt x="18743" y="14860"/>
                  <a:pt x="18858" y="14850"/>
                  <a:pt x="18976" y="14833"/>
                </a:cubicBezTo>
              </a:path>
              <a:path w="2259" h="1167">
                <a:moveTo>
                  <a:pt x="18752" y="15156"/>
                </a:moveTo>
                <a:cubicBezTo>
                  <a:pt x="18859" y="15134"/>
                  <a:pt x="18883" y="15126"/>
                  <a:pt x="18951" y="15131"/>
                </a:cubicBezTo>
              </a:path>
              <a:path w="2259" h="1167">
                <a:moveTo>
                  <a:pt x="16718" y="15180"/>
                </a:moveTo>
                <a:cubicBezTo>
                  <a:pt x="16799" y="15152"/>
                  <a:pt x="17119" y="15058"/>
                  <a:pt x="17066" y="15280"/>
                </a:cubicBezTo>
                <a:cubicBezTo>
                  <a:pt x="16995" y="15374"/>
                  <a:pt x="16975" y="15402"/>
                  <a:pt x="16917" y="15453"/>
                </a:cubicBezTo>
                <a:cubicBezTo>
                  <a:pt x="17032" y="15328"/>
                  <a:pt x="17022" y="15323"/>
                  <a:pt x="17190" y="15379"/>
                </a:cubicBezTo>
                <a:cubicBezTo>
                  <a:pt x="17108" y="15605"/>
                  <a:pt x="17061" y="15674"/>
                  <a:pt x="16818" y="15602"/>
                </a:cubicBezTo>
              </a:path>
              <a:path w="2259" h="1167">
                <a:moveTo>
                  <a:pt x="17363" y="15106"/>
                </a:moveTo>
                <a:cubicBezTo>
                  <a:pt x="17315" y="15317"/>
                  <a:pt x="17311" y="15379"/>
                  <a:pt x="17388" y="15577"/>
                </a:cubicBezTo>
                <a:cubicBezTo>
                  <a:pt x="17530" y="15544"/>
                  <a:pt x="17795" y="15401"/>
                  <a:pt x="17611" y="15205"/>
                </a:cubicBezTo>
                <a:cubicBezTo>
                  <a:pt x="17490" y="15157"/>
                  <a:pt x="17452" y="15141"/>
                  <a:pt x="17363" y="15156"/>
                </a:cubicBezTo>
              </a:path>
              <a:path w="2259" h="1167">
                <a:moveTo>
                  <a:pt x="17959" y="15280"/>
                </a:moveTo>
                <a:cubicBezTo>
                  <a:pt x="17959" y="15321"/>
                  <a:pt x="17959" y="15363"/>
                  <a:pt x="17959" y="15404"/>
                </a:cubicBezTo>
                <a:cubicBezTo>
                  <a:pt x="18022" y="15631"/>
                  <a:pt x="17964" y="15274"/>
                  <a:pt x="17983" y="15180"/>
                </a:cubicBezTo>
                <a:cubicBezTo>
                  <a:pt x="18141" y="15170"/>
                  <a:pt x="18265" y="15202"/>
                  <a:pt x="18306" y="15379"/>
                </a:cubicBezTo>
                <a:cubicBezTo>
                  <a:pt x="18306" y="15404"/>
                  <a:pt x="18306" y="15428"/>
                  <a:pt x="18306" y="15453"/>
                </a:cubicBezTo>
              </a:path>
              <a:path w="2259" h="1167">
                <a:moveTo>
                  <a:pt x="16768" y="15900"/>
                </a:moveTo>
                <a:cubicBezTo>
                  <a:pt x="16851" y="15900"/>
                  <a:pt x="16909" y="15883"/>
                  <a:pt x="16991" y="15875"/>
                </a:cubicBezTo>
                <a:cubicBezTo>
                  <a:pt x="17047" y="15870"/>
                  <a:pt x="17108" y="15875"/>
                  <a:pt x="17165" y="15875"/>
                </a:cubicBezTo>
              </a:path>
              <a:path w="2259" h="1167">
                <a:moveTo>
                  <a:pt x="16818" y="15999"/>
                </a:moveTo>
                <a:cubicBezTo>
                  <a:pt x="16818" y="15885"/>
                  <a:pt x="16872" y="15925"/>
                  <a:pt x="16991" y="15925"/>
                </a:cubicBezTo>
                <a:cubicBezTo>
                  <a:pt x="17257" y="15925"/>
                  <a:pt x="17519" y="15900"/>
                  <a:pt x="17785" y="15900"/>
                </a:cubicBezTo>
                <a:cubicBezTo>
                  <a:pt x="17627" y="15944"/>
                  <a:pt x="17503" y="15974"/>
                  <a:pt x="17338" y="15974"/>
                </a:cubicBezTo>
                <a:cubicBezTo>
                  <a:pt x="17355" y="15974"/>
                  <a:pt x="17371" y="15974"/>
                  <a:pt x="17388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34120" y="5384880"/>
            <a:ext cx="812880" cy="241200"/>
          </a:xfrm>
          <a:custGeom>
            <a:avLst/>
            <a:gdLst/>
            <a:ahLst/>
            <a:rect l="l" t="t" r="r" b="b"/>
            <a:pathLst>
              <a:path w="2258" h="671">
                <a:moveTo>
                  <a:pt x="19819" y="15131"/>
                </a:moveTo>
                <a:cubicBezTo>
                  <a:pt x="19939" y="15101"/>
                  <a:pt x="20200" y="15046"/>
                  <a:pt x="20092" y="15280"/>
                </a:cubicBezTo>
                <a:cubicBezTo>
                  <a:pt x="20067" y="15313"/>
                  <a:pt x="20042" y="15346"/>
                  <a:pt x="20017" y="15379"/>
                </a:cubicBezTo>
                <a:cubicBezTo>
                  <a:pt x="19887" y="15352"/>
                  <a:pt x="20145" y="15330"/>
                  <a:pt x="20191" y="15354"/>
                </a:cubicBezTo>
                <a:cubicBezTo>
                  <a:pt x="20410" y="15468"/>
                  <a:pt x="20138" y="15612"/>
                  <a:pt x="20017" y="15602"/>
                </a:cubicBezTo>
                <a:cubicBezTo>
                  <a:pt x="19984" y="15594"/>
                  <a:pt x="19951" y="15585"/>
                  <a:pt x="19918" y="15577"/>
                </a:cubicBezTo>
              </a:path>
              <a:path w="2258" h="671">
                <a:moveTo>
                  <a:pt x="20489" y="15528"/>
                </a:moveTo>
                <a:cubicBezTo>
                  <a:pt x="20489" y="15561"/>
                  <a:pt x="20489" y="15594"/>
                  <a:pt x="20489" y="15627"/>
                </a:cubicBezTo>
              </a:path>
              <a:path w="2258" h="671">
                <a:moveTo>
                  <a:pt x="20687" y="15081"/>
                </a:moveTo>
                <a:cubicBezTo>
                  <a:pt x="20695" y="15165"/>
                  <a:pt x="20669" y="15452"/>
                  <a:pt x="20762" y="15503"/>
                </a:cubicBezTo>
                <a:cubicBezTo>
                  <a:pt x="20966" y="15615"/>
                  <a:pt x="21019" y="15389"/>
                  <a:pt x="21010" y="15255"/>
                </a:cubicBezTo>
                <a:cubicBezTo>
                  <a:pt x="20899" y="15295"/>
                  <a:pt x="20837" y="15355"/>
                  <a:pt x="20935" y="15453"/>
                </a:cubicBezTo>
              </a:path>
              <a:path w="2258" h="671">
                <a:moveTo>
                  <a:pt x="21307" y="15007"/>
                </a:moveTo>
                <a:cubicBezTo>
                  <a:pt x="21198" y="15034"/>
                  <a:pt x="21134" y="15183"/>
                  <a:pt x="21158" y="15304"/>
                </a:cubicBezTo>
                <a:cubicBezTo>
                  <a:pt x="21175" y="15321"/>
                  <a:pt x="21191" y="15337"/>
                  <a:pt x="21208" y="15354"/>
                </a:cubicBezTo>
                <a:cubicBezTo>
                  <a:pt x="21346" y="15362"/>
                  <a:pt x="21659" y="15323"/>
                  <a:pt x="21506" y="15081"/>
                </a:cubicBezTo>
                <a:cubicBezTo>
                  <a:pt x="21410" y="15034"/>
                  <a:pt x="21380" y="15017"/>
                  <a:pt x="21307" y="15032"/>
                </a:cubicBezTo>
              </a:path>
              <a:path w="2258" h="671">
                <a:moveTo>
                  <a:pt x="21729" y="14957"/>
                </a:moveTo>
                <a:cubicBezTo>
                  <a:pt x="21719" y="15071"/>
                  <a:pt x="21650" y="15220"/>
                  <a:pt x="21754" y="15304"/>
                </a:cubicBezTo>
                <a:cubicBezTo>
                  <a:pt x="21891" y="15415"/>
                  <a:pt x="22135" y="15216"/>
                  <a:pt x="22076" y="15056"/>
                </a:cubicBezTo>
                <a:cubicBezTo>
                  <a:pt x="22043" y="15031"/>
                  <a:pt x="22010" y="15007"/>
                  <a:pt x="2197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72160" y="5796000"/>
            <a:ext cx="2000520" cy="581040"/>
          </a:xfrm>
          <a:custGeom>
            <a:avLst/>
            <a:gdLst/>
            <a:ahLst/>
            <a:rect l="l" t="t" r="r" b="b"/>
            <a:pathLst>
              <a:path w="5557" h="1614">
                <a:moveTo>
                  <a:pt x="19496" y="17686"/>
                </a:moveTo>
                <a:cubicBezTo>
                  <a:pt x="19571" y="17452"/>
                  <a:pt x="19564" y="17285"/>
                  <a:pt x="19521" y="17041"/>
                </a:cubicBezTo>
                <a:cubicBezTo>
                  <a:pt x="19499" y="16934"/>
                  <a:pt x="19491" y="16910"/>
                  <a:pt x="19496" y="16842"/>
                </a:cubicBezTo>
                <a:cubicBezTo>
                  <a:pt x="19674" y="16791"/>
                  <a:pt x="19894" y="16800"/>
                  <a:pt x="20092" y="16793"/>
                </a:cubicBezTo>
                <a:cubicBezTo>
                  <a:pt x="20486" y="16778"/>
                  <a:pt x="20865" y="16763"/>
                  <a:pt x="21258" y="16718"/>
                </a:cubicBezTo>
                <a:cubicBezTo>
                  <a:pt x="21553" y="16684"/>
                  <a:pt x="21875" y="16629"/>
                  <a:pt x="22175" y="16669"/>
                </a:cubicBezTo>
                <a:cubicBezTo>
                  <a:pt x="22226" y="16676"/>
                  <a:pt x="22268" y="16691"/>
                  <a:pt x="22324" y="16694"/>
                </a:cubicBezTo>
              </a:path>
              <a:path w="5557" h="1614">
                <a:moveTo>
                  <a:pt x="18331" y="17314"/>
                </a:moveTo>
                <a:cubicBezTo>
                  <a:pt x="18381" y="17274"/>
                  <a:pt x="18674" y="17066"/>
                  <a:pt x="18653" y="17289"/>
                </a:cubicBezTo>
                <a:cubicBezTo>
                  <a:pt x="18644" y="17388"/>
                  <a:pt x="18549" y="17441"/>
                  <a:pt x="18479" y="17487"/>
                </a:cubicBezTo>
                <a:cubicBezTo>
                  <a:pt x="18517" y="17403"/>
                  <a:pt x="18708" y="17379"/>
                  <a:pt x="18703" y="17537"/>
                </a:cubicBezTo>
                <a:cubicBezTo>
                  <a:pt x="18697" y="17717"/>
                  <a:pt x="18413" y="17737"/>
                  <a:pt x="18306" y="17661"/>
                </a:cubicBezTo>
                <a:cubicBezTo>
                  <a:pt x="18289" y="17636"/>
                  <a:pt x="18273" y="17612"/>
                  <a:pt x="18256" y="17587"/>
                </a:cubicBezTo>
              </a:path>
              <a:path w="5557" h="1614">
                <a:moveTo>
                  <a:pt x="19025" y="17115"/>
                </a:moveTo>
                <a:cubicBezTo>
                  <a:pt x="18947" y="17234"/>
                  <a:pt x="18857" y="17462"/>
                  <a:pt x="18926" y="17611"/>
                </a:cubicBezTo>
                <a:cubicBezTo>
                  <a:pt x="18951" y="17628"/>
                  <a:pt x="18975" y="17644"/>
                  <a:pt x="19000" y="17661"/>
                </a:cubicBezTo>
                <a:cubicBezTo>
                  <a:pt x="19146" y="17588"/>
                  <a:pt x="19431" y="17440"/>
                  <a:pt x="19199" y="17239"/>
                </a:cubicBezTo>
                <a:cubicBezTo>
                  <a:pt x="19060" y="17193"/>
                  <a:pt x="19020" y="17175"/>
                  <a:pt x="18926" y="17214"/>
                </a:cubicBezTo>
              </a:path>
              <a:path w="5557" h="1614">
                <a:moveTo>
                  <a:pt x="21158" y="16197"/>
                </a:moveTo>
                <a:cubicBezTo>
                  <a:pt x="21122" y="16363"/>
                  <a:pt x="21113" y="16534"/>
                  <a:pt x="21059" y="16694"/>
                </a:cubicBezTo>
              </a:path>
              <a:path w="5557" h="1614">
                <a:moveTo>
                  <a:pt x="21332" y="16173"/>
                </a:moveTo>
                <a:cubicBezTo>
                  <a:pt x="21454" y="16124"/>
                  <a:pt x="21493" y="16107"/>
                  <a:pt x="21580" y="16148"/>
                </a:cubicBezTo>
                <a:cubicBezTo>
                  <a:pt x="21660" y="16309"/>
                  <a:pt x="21718" y="16513"/>
                  <a:pt x="21481" y="16594"/>
                </a:cubicBezTo>
                <a:cubicBezTo>
                  <a:pt x="21334" y="16644"/>
                  <a:pt x="21346" y="16512"/>
                  <a:pt x="21332" y="16421"/>
                </a:cubicBezTo>
                <a:cubicBezTo>
                  <a:pt x="21476" y="16365"/>
                  <a:pt x="21602" y="16399"/>
                  <a:pt x="21729" y="16520"/>
                </a:cubicBezTo>
                <a:cubicBezTo>
                  <a:pt x="21737" y="16537"/>
                  <a:pt x="21746" y="16553"/>
                  <a:pt x="21754" y="16570"/>
                </a:cubicBezTo>
              </a:path>
              <a:path w="5557" h="1614">
                <a:moveTo>
                  <a:pt x="22076" y="16123"/>
                </a:moveTo>
                <a:cubicBezTo>
                  <a:pt x="21945" y="16211"/>
                  <a:pt x="21888" y="16252"/>
                  <a:pt x="21878" y="16421"/>
                </a:cubicBezTo>
                <a:cubicBezTo>
                  <a:pt x="21869" y="16575"/>
                  <a:pt x="22001" y="16671"/>
                  <a:pt x="22151" y="16594"/>
                </a:cubicBezTo>
                <a:cubicBezTo>
                  <a:pt x="22285" y="16525"/>
                  <a:pt x="22316" y="16334"/>
                  <a:pt x="22225" y="16222"/>
                </a:cubicBezTo>
                <a:cubicBezTo>
                  <a:pt x="22158" y="16140"/>
                  <a:pt x="22044" y="16148"/>
                  <a:pt x="21952" y="16148"/>
                </a:cubicBezTo>
              </a:path>
              <a:path w="5557" h="1614">
                <a:moveTo>
                  <a:pt x="22547" y="16321"/>
                </a:moveTo>
                <a:cubicBezTo>
                  <a:pt x="22666" y="16321"/>
                  <a:pt x="22777" y="16339"/>
                  <a:pt x="22895" y="16346"/>
                </a:cubicBezTo>
              </a:path>
              <a:path w="5557" h="1614">
                <a:moveTo>
                  <a:pt x="22498" y="16570"/>
                </a:moveTo>
                <a:cubicBezTo>
                  <a:pt x="22624" y="16544"/>
                  <a:pt x="22745" y="16512"/>
                  <a:pt x="22870" y="16495"/>
                </a:cubicBezTo>
              </a:path>
              <a:path w="5557" h="1614">
                <a:moveTo>
                  <a:pt x="23341" y="16222"/>
                </a:moveTo>
                <a:cubicBezTo>
                  <a:pt x="23341" y="16330"/>
                  <a:pt x="23341" y="16437"/>
                  <a:pt x="23341" y="16545"/>
                </a:cubicBezTo>
                <a:cubicBezTo>
                  <a:pt x="23311" y="16417"/>
                  <a:pt x="23286" y="16291"/>
                  <a:pt x="23366" y="16173"/>
                </a:cubicBezTo>
                <a:cubicBezTo>
                  <a:pt x="23450" y="16048"/>
                  <a:pt x="23593" y="16081"/>
                  <a:pt x="23688" y="16173"/>
                </a:cubicBezTo>
                <a:cubicBezTo>
                  <a:pt x="23793" y="16274"/>
                  <a:pt x="23800" y="16395"/>
                  <a:pt x="23788" y="16520"/>
                </a:cubicBezTo>
                <a:cubicBezTo>
                  <a:pt x="23788" y="16537"/>
                  <a:pt x="23788" y="16553"/>
                  <a:pt x="23788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88120" y="6018120"/>
            <a:ext cx="795240" cy="295200"/>
          </a:xfrm>
          <a:custGeom>
            <a:avLst/>
            <a:gdLst/>
            <a:ahLst/>
            <a:rect l="l" t="t" r="r" b="b"/>
            <a:pathLst>
              <a:path w="2208" h="820">
                <a:moveTo>
                  <a:pt x="19968" y="16991"/>
                </a:moveTo>
                <a:cubicBezTo>
                  <a:pt x="20028" y="16952"/>
                  <a:pt x="20354" y="16735"/>
                  <a:pt x="20340" y="16966"/>
                </a:cubicBezTo>
                <a:cubicBezTo>
                  <a:pt x="20289" y="17092"/>
                  <a:pt x="20271" y="17135"/>
                  <a:pt x="20191" y="17190"/>
                </a:cubicBezTo>
                <a:cubicBezTo>
                  <a:pt x="20403" y="17178"/>
                  <a:pt x="20501" y="17249"/>
                  <a:pt x="20290" y="17438"/>
                </a:cubicBezTo>
                <a:cubicBezTo>
                  <a:pt x="20134" y="17577"/>
                  <a:pt x="20085" y="17514"/>
                  <a:pt x="19968" y="17413"/>
                </a:cubicBezTo>
              </a:path>
              <a:path w="2208" h="820">
                <a:moveTo>
                  <a:pt x="20737" y="17264"/>
                </a:moveTo>
                <a:cubicBezTo>
                  <a:pt x="20737" y="17405"/>
                  <a:pt x="20738" y="17448"/>
                  <a:pt x="20712" y="17537"/>
                </a:cubicBezTo>
              </a:path>
              <a:path w="2208" h="820">
                <a:moveTo>
                  <a:pt x="21010" y="16793"/>
                </a:moveTo>
                <a:cubicBezTo>
                  <a:pt x="20999" y="16980"/>
                  <a:pt x="20965" y="17155"/>
                  <a:pt x="20985" y="17338"/>
                </a:cubicBezTo>
                <a:cubicBezTo>
                  <a:pt x="21198" y="17292"/>
                  <a:pt x="21242" y="17218"/>
                  <a:pt x="21282" y="17016"/>
                </a:cubicBezTo>
                <a:cubicBezTo>
                  <a:pt x="21165" y="17003"/>
                  <a:pt x="21045" y="17094"/>
                  <a:pt x="21034" y="17239"/>
                </a:cubicBezTo>
                <a:cubicBezTo>
                  <a:pt x="21042" y="17256"/>
                  <a:pt x="21051" y="17272"/>
                  <a:pt x="21059" y="17289"/>
                </a:cubicBezTo>
              </a:path>
              <a:path w="2208" h="820">
                <a:moveTo>
                  <a:pt x="21481" y="16768"/>
                </a:moveTo>
                <a:cubicBezTo>
                  <a:pt x="21362" y="16926"/>
                  <a:pt x="21335" y="17022"/>
                  <a:pt x="21357" y="17214"/>
                </a:cubicBezTo>
                <a:cubicBezTo>
                  <a:pt x="21514" y="17215"/>
                  <a:pt x="21669" y="17088"/>
                  <a:pt x="21654" y="16892"/>
                </a:cubicBezTo>
                <a:cubicBezTo>
                  <a:pt x="21603" y="16815"/>
                  <a:pt x="21583" y="16790"/>
                  <a:pt x="21506" y="16818"/>
                </a:cubicBezTo>
              </a:path>
              <a:path w="2208" h="820">
                <a:moveTo>
                  <a:pt x="21853" y="16743"/>
                </a:moveTo>
                <a:cubicBezTo>
                  <a:pt x="21829" y="16895"/>
                  <a:pt x="21812" y="17016"/>
                  <a:pt x="21828" y="17165"/>
                </a:cubicBezTo>
                <a:cubicBezTo>
                  <a:pt x="21993" y="17165"/>
                  <a:pt x="22258" y="17061"/>
                  <a:pt x="22175" y="16818"/>
                </a:cubicBezTo>
                <a:cubicBezTo>
                  <a:pt x="22142" y="16785"/>
                  <a:pt x="22109" y="16751"/>
                  <a:pt x="22076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05240" y="534024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4461" y="14858"/>
                </a:moveTo>
                <a:cubicBezTo>
                  <a:pt x="14540" y="14853"/>
                  <a:pt x="14607" y="14842"/>
                  <a:pt x="14684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64080" y="5205240"/>
            <a:ext cx="1447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5478" y="14461"/>
                </a:moveTo>
                <a:cubicBezTo>
                  <a:pt x="15391" y="14488"/>
                  <a:pt x="15274" y="14484"/>
                  <a:pt x="15205" y="14560"/>
                </a:cubicBezTo>
                <a:cubicBezTo>
                  <a:pt x="15181" y="14586"/>
                  <a:pt x="15194" y="14726"/>
                  <a:pt x="15180" y="14784"/>
                </a:cubicBezTo>
                <a:cubicBezTo>
                  <a:pt x="15348" y="14668"/>
                  <a:pt x="15391" y="14640"/>
                  <a:pt x="15577" y="14734"/>
                </a:cubicBezTo>
                <a:cubicBezTo>
                  <a:pt x="15488" y="14914"/>
                  <a:pt x="15411" y="14971"/>
                  <a:pt x="15205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07000" y="5214960"/>
            <a:ext cx="152280" cy="160200"/>
          </a:xfrm>
          <a:custGeom>
            <a:avLst/>
            <a:gdLst/>
            <a:ahLst/>
            <a:rect l="l" t="t" r="r" b="b"/>
            <a:pathLst>
              <a:path w="423" h="447">
                <a:moveTo>
                  <a:pt x="15677" y="14486"/>
                </a:moveTo>
                <a:cubicBezTo>
                  <a:pt x="15576" y="14670"/>
                  <a:pt x="15564" y="14734"/>
                  <a:pt x="15627" y="14932"/>
                </a:cubicBezTo>
                <a:cubicBezTo>
                  <a:pt x="15729" y="14908"/>
                  <a:pt x="16180" y="14724"/>
                  <a:pt x="15949" y="14536"/>
                </a:cubicBezTo>
                <a:cubicBezTo>
                  <a:pt x="15801" y="14511"/>
                  <a:pt x="15751" y="14503"/>
                  <a:pt x="15652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03880" y="5446800"/>
            <a:ext cx="438120" cy="54000"/>
          </a:xfrm>
          <a:custGeom>
            <a:avLst/>
            <a:gdLst/>
            <a:ahLst/>
            <a:rect l="l" t="t" r="r" b="b"/>
            <a:pathLst>
              <a:path w="1216" h="150">
                <a:moveTo>
                  <a:pt x="14734" y="15280"/>
                </a:moveTo>
                <a:cubicBezTo>
                  <a:pt x="15105" y="15184"/>
                  <a:pt x="15467" y="15142"/>
                  <a:pt x="15850" y="15131"/>
                </a:cubicBezTo>
                <a:cubicBezTo>
                  <a:pt x="15883" y="15131"/>
                  <a:pt x="15916" y="15131"/>
                  <a:pt x="1594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6720" y="5510160"/>
            <a:ext cx="152280" cy="177840"/>
          </a:xfrm>
          <a:custGeom>
            <a:avLst/>
            <a:gdLst/>
            <a:ahLst/>
            <a:rect l="l" t="t" r="r" b="b"/>
            <a:pathLst>
              <a:path w="423" h="498">
                <a:moveTo>
                  <a:pt x="15701" y="15354"/>
                </a:moveTo>
                <a:cubicBezTo>
                  <a:pt x="15623" y="15573"/>
                  <a:pt x="15592" y="15601"/>
                  <a:pt x="15677" y="15801"/>
                </a:cubicBezTo>
                <a:cubicBezTo>
                  <a:pt x="15792" y="15751"/>
                  <a:pt x="16235" y="15479"/>
                  <a:pt x="15949" y="15304"/>
                </a:cubicBezTo>
                <a:cubicBezTo>
                  <a:pt x="15891" y="15304"/>
                  <a:pt x="15834" y="15304"/>
                  <a:pt x="15776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olving Algebraic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evaluate algebraic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 to s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lgebraic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a #, an operation and a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ubstitute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 to replace or “put 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Now that you can translate expressions, we will learn how to evaluate them by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substituting for the variable</a:t>
            </a: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To solve, we will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place</a:t>
            </a: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 the variable with the number giv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 = 8, evalua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+ 9 1/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    16.25 – 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4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4720" y="2643120"/>
            <a:ext cx="795240" cy="44640"/>
          </a:xfrm>
          <a:custGeom>
            <a:avLst/>
            <a:gdLst/>
            <a:ahLst/>
            <a:rect l="l" t="t" r="r" b="b"/>
            <a:pathLst>
              <a:path w="2209" h="125">
                <a:moveTo>
                  <a:pt x="2952" y="7441"/>
                </a:moveTo>
                <a:cubicBezTo>
                  <a:pt x="2929" y="7419"/>
                  <a:pt x="2924" y="7411"/>
                  <a:pt x="2902" y="7417"/>
                </a:cubicBezTo>
                <a:cubicBezTo>
                  <a:pt x="2996" y="7426"/>
                  <a:pt x="3084" y="7453"/>
                  <a:pt x="3175" y="7466"/>
                </a:cubicBezTo>
                <a:cubicBezTo>
                  <a:pt x="3397" y="7498"/>
                  <a:pt x="3653" y="7466"/>
                  <a:pt x="3870" y="7441"/>
                </a:cubicBezTo>
                <a:cubicBezTo>
                  <a:pt x="3965" y="7430"/>
                  <a:pt x="4047" y="7397"/>
                  <a:pt x="4142" y="7392"/>
                </a:cubicBezTo>
                <a:cubicBezTo>
                  <a:pt x="4239" y="7387"/>
                  <a:pt x="4319" y="7370"/>
                  <a:pt x="4415" y="7367"/>
                </a:cubicBezTo>
                <a:cubicBezTo>
                  <a:pt x="4502" y="7364"/>
                  <a:pt x="4576" y="7342"/>
                  <a:pt x="4663" y="7342"/>
                </a:cubicBezTo>
                <a:cubicBezTo>
                  <a:pt x="4812" y="7342"/>
                  <a:pt x="4961" y="7342"/>
                  <a:pt x="5110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7880" y="373212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2307" y="10393"/>
                </a:moveTo>
                <a:cubicBezTo>
                  <a:pt x="2163" y="10367"/>
                  <a:pt x="2058" y="10410"/>
                  <a:pt x="1935" y="10492"/>
                </a:cubicBezTo>
                <a:cubicBezTo>
                  <a:pt x="1969" y="10674"/>
                  <a:pt x="2185" y="10817"/>
                  <a:pt x="2158" y="11013"/>
                </a:cubicBezTo>
                <a:cubicBezTo>
                  <a:pt x="2133" y="11192"/>
                  <a:pt x="1999" y="11153"/>
                  <a:pt x="1885" y="11137"/>
                </a:cubicBezTo>
                <a:cubicBezTo>
                  <a:pt x="1950" y="10925"/>
                  <a:pt x="2060" y="10762"/>
                  <a:pt x="2158" y="10567"/>
                </a:cubicBezTo>
              </a:path>
              <a:path w="1638" h="795">
                <a:moveTo>
                  <a:pt x="2704" y="10443"/>
                </a:moveTo>
                <a:cubicBezTo>
                  <a:pt x="2683" y="10633"/>
                  <a:pt x="2644" y="10825"/>
                  <a:pt x="2604" y="11013"/>
                </a:cubicBezTo>
              </a:path>
              <a:path w="1638" h="795">
                <a:moveTo>
                  <a:pt x="2480" y="10765"/>
                </a:moveTo>
                <a:cubicBezTo>
                  <a:pt x="2655" y="10765"/>
                  <a:pt x="2713" y="10765"/>
                  <a:pt x="2828" y="10740"/>
                </a:cubicBezTo>
              </a:path>
              <a:path w="1638" h="795">
                <a:moveTo>
                  <a:pt x="3497" y="10691"/>
                </a:moveTo>
                <a:cubicBezTo>
                  <a:pt x="3521" y="10557"/>
                  <a:pt x="3524" y="10515"/>
                  <a:pt x="3473" y="10393"/>
                </a:cubicBezTo>
                <a:cubicBezTo>
                  <a:pt x="3228" y="10379"/>
                  <a:pt x="3165" y="10443"/>
                  <a:pt x="3076" y="10666"/>
                </a:cubicBezTo>
                <a:cubicBezTo>
                  <a:pt x="3253" y="10735"/>
                  <a:pt x="3331" y="10725"/>
                  <a:pt x="3473" y="10567"/>
                </a:cubicBezTo>
                <a:cubicBezTo>
                  <a:pt x="3465" y="10756"/>
                  <a:pt x="3427" y="10928"/>
                  <a:pt x="3398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1840" y="3705120"/>
            <a:ext cx="169920" cy="376200"/>
          </a:xfrm>
          <a:custGeom>
            <a:avLst/>
            <a:gdLst/>
            <a:ahLst/>
            <a:rect l="l" t="t" r="r" b="b"/>
            <a:pathLst>
              <a:path w="473" h="1043">
                <a:moveTo>
                  <a:pt x="4266" y="10294"/>
                </a:moveTo>
                <a:cubicBezTo>
                  <a:pt x="4251" y="10468"/>
                  <a:pt x="4205" y="10621"/>
                  <a:pt x="4167" y="10790"/>
                </a:cubicBezTo>
              </a:path>
              <a:path w="473" h="1043">
                <a:moveTo>
                  <a:pt x="3894" y="10790"/>
                </a:moveTo>
                <a:cubicBezTo>
                  <a:pt x="4055" y="10775"/>
                  <a:pt x="4204" y="10733"/>
                  <a:pt x="4366" y="10716"/>
                </a:cubicBezTo>
              </a:path>
              <a:path w="473" h="1043">
                <a:moveTo>
                  <a:pt x="4068" y="10988"/>
                </a:moveTo>
                <a:cubicBezTo>
                  <a:pt x="4167" y="10964"/>
                  <a:pt x="4224" y="10946"/>
                  <a:pt x="4316" y="10964"/>
                </a:cubicBezTo>
                <a:cubicBezTo>
                  <a:pt x="4316" y="11160"/>
                  <a:pt x="4165" y="11188"/>
                  <a:pt x="3994" y="11286"/>
                </a:cubicBezTo>
                <a:cubicBezTo>
                  <a:pt x="4130" y="11329"/>
                  <a:pt x="4215" y="11314"/>
                  <a:pt x="4366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68760" y="3732120"/>
            <a:ext cx="473040" cy="312840"/>
          </a:xfrm>
          <a:custGeom>
            <a:avLst/>
            <a:gdLst/>
            <a:ahLst/>
            <a:rect l="l" t="t" r="r" b="b"/>
            <a:pathLst>
              <a:path w="1316" h="870">
                <a:moveTo>
                  <a:pt x="7789" y="10517"/>
                </a:moveTo>
                <a:cubicBezTo>
                  <a:pt x="7763" y="10670"/>
                  <a:pt x="7748" y="10773"/>
                  <a:pt x="7689" y="10914"/>
                </a:cubicBezTo>
                <a:cubicBezTo>
                  <a:pt x="7834" y="10896"/>
                  <a:pt x="7986" y="10859"/>
                  <a:pt x="8136" y="10840"/>
                </a:cubicBezTo>
                <a:cubicBezTo>
                  <a:pt x="8144" y="10840"/>
                  <a:pt x="8153" y="10840"/>
                  <a:pt x="8161" y="10840"/>
                </a:cubicBezTo>
              </a:path>
              <a:path w="1316" h="870">
                <a:moveTo>
                  <a:pt x="8111" y="10368"/>
                </a:moveTo>
                <a:cubicBezTo>
                  <a:pt x="8111" y="10561"/>
                  <a:pt x="8059" y="10753"/>
                  <a:pt x="8012" y="10939"/>
                </a:cubicBezTo>
                <a:cubicBezTo>
                  <a:pt x="7974" y="11072"/>
                  <a:pt x="7975" y="11092"/>
                  <a:pt x="7938" y="11162"/>
                </a:cubicBezTo>
              </a:path>
              <a:path w="1316" h="870">
                <a:moveTo>
                  <a:pt x="8334" y="10666"/>
                </a:moveTo>
                <a:cubicBezTo>
                  <a:pt x="8359" y="10805"/>
                  <a:pt x="8421" y="10934"/>
                  <a:pt x="8483" y="11063"/>
                </a:cubicBezTo>
                <a:cubicBezTo>
                  <a:pt x="8491" y="11079"/>
                  <a:pt x="8500" y="11096"/>
                  <a:pt x="8508" y="11112"/>
                </a:cubicBezTo>
              </a:path>
              <a:path w="1316" h="870">
                <a:moveTo>
                  <a:pt x="8607" y="10691"/>
                </a:moveTo>
                <a:cubicBezTo>
                  <a:pt x="8502" y="10822"/>
                  <a:pt x="8427" y="10969"/>
                  <a:pt x="8334" y="11112"/>
                </a:cubicBezTo>
              </a:path>
              <a:path w="1316" h="870">
                <a:moveTo>
                  <a:pt x="9004" y="10567"/>
                </a:moveTo>
                <a:cubicBezTo>
                  <a:pt x="8949" y="10436"/>
                  <a:pt x="8787" y="10505"/>
                  <a:pt x="8682" y="10592"/>
                </a:cubicBezTo>
                <a:cubicBezTo>
                  <a:pt x="8665" y="10617"/>
                  <a:pt x="8649" y="10641"/>
                  <a:pt x="8632" y="10666"/>
                </a:cubicBezTo>
                <a:cubicBezTo>
                  <a:pt x="8719" y="10796"/>
                  <a:pt x="8969" y="10978"/>
                  <a:pt x="8905" y="11162"/>
                </a:cubicBezTo>
                <a:cubicBezTo>
                  <a:pt x="8880" y="11187"/>
                  <a:pt x="8855" y="11212"/>
                  <a:pt x="8830" y="11237"/>
                </a:cubicBezTo>
                <a:cubicBezTo>
                  <a:pt x="8596" y="11166"/>
                  <a:pt x="8863" y="10913"/>
                  <a:pt x="8930" y="10765"/>
                </a:cubicBezTo>
                <a:cubicBezTo>
                  <a:pt x="8966" y="10655"/>
                  <a:pt x="9012" y="10633"/>
                  <a:pt x="8954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4116240"/>
            <a:ext cx="1162080" cy="768600"/>
          </a:xfrm>
          <a:custGeom>
            <a:avLst/>
            <a:gdLst/>
            <a:ahLst/>
            <a:rect l="l" t="t" r="r" b="b"/>
            <a:pathLst>
              <a:path w="3226" h="2134">
                <a:moveTo>
                  <a:pt x="2332" y="12402"/>
                </a:moveTo>
                <a:cubicBezTo>
                  <a:pt x="2332" y="12601"/>
                  <a:pt x="2332" y="12799"/>
                  <a:pt x="2332" y="12998"/>
                </a:cubicBezTo>
              </a:path>
              <a:path w="3226" h="2134">
                <a:moveTo>
                  <a:pt x="2580" y="12353"/>
                </a:moveTo>
                <a:cubicBezTo>
                  <a:pt x="2765" y="12319"/>
                  <a:pt x="2937" y="12303"/>
                  <a:pt x="3125" y="12303"/>
                </a:cubicBezTo>
                <a:cubicBezTo>
                  <a:pt x="3111" y="12487"/>
                  <a:pt x="3077" y="12667"/>
                  <a:pt x="3051" y="12849"/>
                </a:cubicBezTo>
                <a:cubicBezTo>
                  <a:pt x="3051" y="12857"/>
                  <a:pt x="3051" y="12866"/>
                  <a:pt x="3051" y="12874"/>
                </a:cubicBezTo>
              </a:path>
              <a:path w="3226" h="2134">
                <a:moveTo>
                  <a:pt x="3994" y="11981"/>
                </a:moveTo>
                <a:cubicBezTo>
                  <a:pt x="3950" y="12119"/>
                  <a:pt x="3927" y="12232"/>
                  <a:pt x="3919" y="12378"/>
                </a:cubicBezTo>
              </a:path>
              <a:path w="3226" h="2134">
                <a:moveTo>
                  <a:pt x="3572" y="12502"/>
                </a:moveTo>
                <a:cubicBezTo>
                  <a:pt x="3771" y="12502"/>
                  <a:pt x="3838" y="12502"/>
                  <a:pt x="3969" y="12477"/>
                </a:cubicBezTo>
              </a:path>
              <a:path w="3226" h="2134">
                <a:moveTo>
                  <a:pt x="3671" y="12700"/>
                </a:moveTo>
                <a:cubicBezTo>
                  <a:pt x="3769" y="12675"/>
                  <a:pt x="3802" y="12667"/>
                  <a:pt x="3870" y="12675"/>
                </a:cubicBezTo>
                <a:cubicBezTo>
                  <a:pt x="3885" y="12882"/>
                  <a:pt x="3743" y="12917"/>
                  <a:pt x="3572" y="13022"/>
                </a:cubicBezTo>
                <a:cubicBezTo>
                  <a:pt x="3704" y="13066"/>
                  <a:pt x="3819" y="13047"/>
                  <a:pt x="3969" y="13047"/>
                </a:cubicBezTo>
              </a:path>
              <a:path w="3226" h="2134">
                <a:moveTo>
                  <a:pt x="2232" y="13419"/>
                </a:moveTo>
                <a:cubicBezTo>
                  <a:pt x="2797" y="13585"/>
                  <a:pt x="3328" y="13601"/>
                  <a:pt x="3919" y="13519"/>
                </a:cubicBezTo>
                <a:cubicBezTo>
                  <a:pt x="4322" y="13463"/>
                  <a:pt x="4864" y="13219"/>
                  <a:pt x="5060" y="12824"/>
                </a:cubicBezTo>
                <a:cubicBezTo>
                  <a:pt x="5343" y="12252"/>
                  <a:pt x="4853" y="11677"/>
                  <a:pt x="4341" y="11534"/>
                </a:cubicBezTo>
                <a:cubicBezTo>
                  <a:pt x="4109" y="11469"/>
                  <a:pt x="3815" y="11449"/>
                  <a:pt x="3572" y="11435"/>
                </a:cubicBezTo>
                <a:cubicBezTo>
                  <a:pt x="3208" y="11415"/>
                  <a:pt x="2699" y="11498"/>
                  <a:pt x="2406" y="11733"/>
                </a:cubicBezTo>
                <a:cubicBezTo>
                  <a:pt x="2139" y="11948"/>
                  <a:pt x="1920" y="12357"/>
                  <a:pt x="1885" y="12700"/>
                </a:cubicBezTo>
                <a:cubicBezTo>
                  <a:pt x="1854" y="13006"/>
                  <a:pt x="2114" y="13259"/>
                  <a:pt x="2356" y="13395"/>
                </a:cubicBezTo>
                <a:cubicBezTo>
                  <a:pt x="2493" y="13472"/>
                  <a:pt x="2653" y="13485"/>
                  <a:pt x="2803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52840" y="4268880"/>
            <a:ext cx="741240" cy="500040"/>
          </a:xfrm>
          <a:custGeom>
            <a:avLst/>
            <a:gdLst/>
            <a:ahLst/>
            <a:rect l="l" t="t" r="r" b="b"/>
            <a:pathLst>
              <a:path w="2060" h="1390">
                <a:moveTo>
                  <a:pt x="7962" y="12204"/>
                </a:moveTo>
                <a:cubicBezTo>
                  <a:pt x="8064" y="12180"/>
                  <a:pt x="8112" y="12154"/>
                  <a:pt x="8210" y="12154"/>
                </a:cubicBezTo>
                <a:cubicBezTo>
                  <a:pt x="8221" y="12333"/>
                  <a:pt x="8196" y="12409"/>
                  <a:pt x="8037" y="12502"/>
                </a:cubicBezTo>
                <a:cubicBezTo>
                  <a:pt x="8135" y="12413"/>
                  <a:pt x="8366" y="12427"/>
                  <a:pt x="8235" y="12626"/>
                </a:cubicBezTo>
                <a:cubicBezTo>
                  <a:pt x="8100" y="12831"/>
                  <a:pt x="7887" y="12793"/>
                  <a:pt x="7789" y="12650"/>
                </a:cubicBezTo>
              </a:path>
              <a:path w="2060" h="1390">
                <a:moveTo>
                  <a:pt x="8582" y="12229"/>
                </a:moveTo>
                <a:cubicBezTo>
                  <a:pt x="8599" y="12196"/>
                  <a:pt x="8615" y="12162"/>
                  <a:pt x="8632" y="12129"/>
                </a:cubicBezTo>
                <a:cubicBezTo>
                  <a:pt x="8787" y="12079"/>
                  <a:pt x="8906" y="12201"/>
                  <a:pt x="8880" y="12378"/>
                </a:cubicBezTo>
                <a:cubicBezTo>
                  <a:pt x="8847" y="12599"/>
                  <a:pt x="8616" y="12640"/>
                  <a:pt x="8483" y="12551"/>
                </a:cubicBezTo>
                <a:cubicBezTo>
                  <a:pt x="8642" y="12433"/>
                  <a:pt x="8768" y="12463"/>
                  <a:pt x="8880" y="12650"/>
                </a:cubicBezTo>
                <a:cubicBezTo>
                  <a:pt x="8880" y="12658"/>
                  <a:pt x="8880" y="12667"/>
                  <a:pt x="8880" y="12675"/>
                </a:cubicBezTo>
              </a:path>
              <a:path w="2060" h="1390">
                <a:moveTo>
                  <a:pt x="7665" y="13171"/>
                </a:moveTo>
                <a:cubicBezTo>
                  <a:pt x="7978" y="13207"/>
                  <a:pt x="8292" y="13209"/>
                  <a:pt x="8607" y="13171"/>
                </a:cubicBezTo>
                <a:cubicBezTo>
                  <a:pt x="8907" y="13135"/>
                  <a:pt x="9254" y="13046"/>
                  <a:pt x="9376" y="12725"/>
                </a:cubicBezTo>
                <a:cubicBezTo>
                  <a:pt x="9503" y="12391"/>
                  <a:pt x="9329" y="12202"/>
                  <a:pt x="9079" y="12005"/>
                </a:cubicBezTo>
                <a:cubicBezTo>
                  <a:pt x="8866" y="11837"/>
                  <a:pt x="8620" y="11838"/>
                  <a:pt x="8359" y="11857"/>
                </a:cubicBezTo>
                <a:cubicBezTo>
                  <a:pt x="8141" y="11873"/>
                  <a:pt x="7910" y="11870"/>
                  <a:pt x="7714" y="11981"/>
                </a:cubicBezTo>
                <a:cubicBezTo>
                  <a:pt x="7400" y="12159"/>
                  <a:pt x="7349" y="12441"/>
                  <a:pt x="7392" y="12774"/>
                </a:cubicBezTo>
                <a:cubicBezTo>
                  <a:pt x="7442" y="13164"/>
                  <a:pt x="7643" y="13251"/>
                  <a:pt x="8012" y="13246"/>
                </a:cubicBezTo>
                <a:cubicBezTo>
                  <a:pt x="8144" y="13227"/>
                  <a:pt x="8160" y="13219"/>
                  <a:pt x="8235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803760"/>
            <a:ext cx="777600" cy="223560"/>
          </a:xfrm>
          <a:custGeom>
            <a:avLst/>
            <a:gdLst/>
            <a:ahLst/>
            <a:rect l="l" t="t" r="r" b="b"/>
            <a:pathLst>
              <a:path w="2159" h="621">
                <a:moveTo>
                  <a:pt x="12402" y="10567"/>
                </a:moveTo>
                <a:cubicBezTo>
                  <a:pt x="12352" y="10747"/>
                  <a:pt x="12307" y="10949"/>
                  <a:pt x="12278" y="11137"/>
                </a:cubicBezTo>
                <a:cubicBezTo>
                  <a:pt x="12278" y="11154"/>
                  <a:pt x="12278" y="11170"/>
                  <a:pt x="12278" y="11187"/>
                </a:cubicBezTo>
              </a:path>
              <a:path w="2159" h="621">
                <a:moveTo>
                  <a:pt x="12675" y="10666"/>
                </a:moveTo>
                <a:cubicBezTo>
                  <a:pt x="12661" y="10803"/>
                  <a:pt x="12631" y="10956"/>
                  <a:pt x="12700" y="11088"/>
                </a:cubicBezTo>
                <a:cubicBezTo>
                  <a:pt x="12717" y="11104"/>
                  <a:pt x="12733" y="11121"/>
                  <a:pt x="12750" y="11137"/>
                </a:cubicBezTo>
                <a:cubicBezTo>
                  <a:pt x="12905" y="11108"/>
                  <a:pt x="12974" y="11075"/>
                  <a:pt x="13022" y="10914"/>
                </a:cubicBezTo>
                <a:cubicBezTo>
                  <a:pt x="12841" y="10900"/>
                  <a:pt x="12807" y="10964"/>
                  <a:pt x="12774" y="11137"/>
                </a:cubicBezTo>
              </a:path>
              <a:path w="2159" h="621">
                <a:moveTo>
                  <a:pt x="13246" y="11063"/>
                </a:moveTo>
                <a:lnTo>
                  <a:pt x="13246" y="11063"/>
                </a:lnTo>
              </a:path>
              <a:path w="2159" h="621">
                <a:moveTo>
                  <a:pt x="13568" y="10666"/>
                </a:moveTo>
                <a:cubicBezTo>
                  <a:pt x="13691" y="10629"/>
                  <a:pt x="13873" y="10647"/>
                  <a:pt x="13841" y="10840"/>
                </a:cubicBezTo>
                <a:cubicBezTo>
                  <a:pt x="13810" y="11028"/>
                  <a:pt x="13686" y="11038"/>
                  <a:pt x="13543" y="11063"/>
                </a:cubicBezTo>
                <a:cubicBezTo>
                  <a:pt x="13522" y="10951"/>
                  <a:pt x="13667" y="10927"/>
                  <a:pt x="13767" y="10988"/>
                </a:cubicBezTo>
                <a:cubicBezTo>
                  <a:pt x="13825" y="11046"/>
                  <a:pt x="13833" y="11055"/>
                  <a:pt x="13866" y="11088"/>
                </a:cubicBezTo>
              </a:path>
              <a:path w="2159" h="621">
                <a:moveTo>
                  <a:pt x="14263" y="10616"/>
                </a:moveTo>
                <a:cubicBezTo>
                  <a:pt x="14211" y="10628"/>
                  <a:pt x="14064" y="10615"/>
                  <a:pt x="14039" y="10666"/>
                </a:cubicBezTo>
                <a:cubicBezTo>
                  <a:pt x="14015" y="10740"/>
                  <a:pt x="14007" y="10765"/>
                  <a:pt x="13990" y="10815"/>
                </a:cubicBezTo>
                <a:cubicBezTo>
                  <a:pt x="14104" y="10834"/>
                  <a:pt x="14391" y="10810"/>
                  <a:pt x="14436" y="10964"/>
                </a:cubicBezTo>
                <a:cubicBezTo>
                  <a:pt x="14490" y="11147"/>
                  <a:pt x="14194" y="11140"/>
                  <a:pt x="14114" y="11063"/>
                </a:cubicBezTo>
                <a:cubicBezTo>
                  <a:pt x="14106" y="11038"/>
                  <a:pt x="14097" y="11013"/>
                  <a:pt x="1408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0880" y="3803760"/>
            <a:ext cx="330120" cy="206280"/>
          </a:xfrm>
          <a:custGeom>
            <a:avLst/>
            <a:gdLst/>
            <a:ahLst/>
            <a:rect l="l" t="t" r="r" b="b"/>
            <a:pathLst>
              <a:path w="919" h="571">
                <a:moveTo>
                  <a:pt x="14808" y="10790"/>
                </a:moveTo>
                <a:cubicBezTo>
                  <a:pt x="14940" y="10812"/>
                  <a:pt x="14972" y="10820"/>
                  <a:pt x="15056" y="10815"/>
                </a:cubicBezTo>
              </a:path>
              <a:path w="919" h="571">
                <a:moveTo>
                  <a:pt x="15677" y="10592"/>
                </a:moveTo>
                <a:cubicBezTo>
                  <a:pt x="15535" y="10585"/>
                  <a:pt x="15469" y="10600"/>
                  <a:pt x="15329" y="10641"/>
                </a:cubicBezTo>
                <a:cubicBezTo>
                  <a:pt x="15387" y="10873"/>
                  <a:pt x="15578" y="10831"/>
                  <a:pt x="15701" y="11013"/>
                </a:cubicBezTo>
                <a:cubicBezTo>
                  <a:pt x="15701" y="11038"/>
                  <a:pt x="15701" y="11063"/>
                  <a:pt x="15701" y="11088"/>
                </a:cubicBezTo>
                <a:cubicBezTo>
                  <a:pt x="15579" y="11125"/>
                  <a:pt x="15566" y="11131"/>
                  <a:pt x="15453" y="11088"/>
                </a:cubicBezTo>
                <a:cubicBezTo>
                  <a:pt x="15441" y="10929"/>
                  <a:pt x="15564" y="10842"/>
                  <a:pt x="15677" y="10716"/>
                </a:cubicBezTo>
                <a:cubicBezTo>
                  <a:pt x="15723" y="10670"/>
                  <a:pt x="15743" y="10655"/>
                  <a:pt x="15677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7000" y="3751200"/>
            <a:ext cx="349200" cy="249480"/>
          </a:xfrm>
          <a:custGeom>
            <a:avLst/>
            <a:gdLst/>
            <a:ahLst/>
            <a:rect l="l" t="t" r="r" b="b"/>
            <a:pathLst>
              <a:path w="968" h="695">
                <a:moveTo>
                  <a:pt x="18951" y="10616"/>
                </a:moveTo>
                <a:cubicBezTo>
                  <a:pt x="18909" y="10727"/>
                  <a:pt x="18903" y="10838"/>
                  <a:pt x="18827" y="10840"/>
                </a:cubicBezTo>
                <a:cubicBezTo>
                  <a:pt x="18989" y="10773"/>
                  <a:pt x="19006" y="10773"/>
                  <a:pt x="19174" y="10815"/>
                </a:cubicBezTo>
              </a:path>
              <a:path w="968" h="695">
                <a:moveTo>
                  <a:pt x="19224" y="10418"/>
                </a:moveTo>
                <a:cubicBezTo>
                  <a:pt x="19224" y="10604"/>
                  <a:pt x="19227" y="10780"/>
                  <a:pt x="19248" y="10964"/>
                </a:cubicBezTo>
              </a:path>
              <a:path w="968" h="695">
                <a:moveTo>
                  <a:pt x="19397" y="10592"/>
                </a:moveTo>
                <a:cubicBezTo>
                  <a:pt x="19349" y="10792"/>
                  <a:pt x="19330" y="10893"/>
                  <a:pt x="19372" y="11088"/>
                </a:cubicBezTo>
                <a:cubicBezTo>
                  <a:pt x="19563" y="11087"/>
                  <a:pt x="19901" y="11040"/>
                  <a:pt x="19769" y="10740"/>
                </a:cubicBezTo>
                <a:cubicBezTo>
                  <a:pt x="19656" y="10656"/>
                  <a:pt x="19606" y="10628"/>
                  <a:pt x="19496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77040" y="3741840"/>
            <a:ext cx="73080" cy="241200"/>
          </a:xfrm>
          <a:custGeom>
            <a:avLst/>
            <a:gdLst/>
            <a:ahLst/>
            <a:rect l="l" t="t" r="r" b="b"/>
            <a:pathLst>
              <a:path w="199" h="671">
                <a:moveTo>
                  <a:pt x="20216" y="10765"/>
                </a:moveTo>
                <a:cubicBezTo>
                  <a:pt x="20315" y="10765"/>
                  <a:pt x="20348" y="10765"/>
                  <a:pt x="20414" y="10765"/>
                </a:cubicBezTo>
              </a:path>
              <a:path w="199" h="671">
                <a:moveTo>
                  <a:pt x="20216" y="10393"/>
                </a:moveTo>
                <a:lnTo>
                  <a:pt x="20216" y="10393"/>
                </a:lnTo>
              </a:path>
              <a:path w="199" h="671">
                <a:moveTo>
                  <a:pt x="20216" y="11063"/>
                </a:moveTo>
                <a:lnTo>
                  <a:pt x="20216" y="110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83320" y="3732120"/>
            <a:ext cx="133560" cy="24156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21084" y="10368"/>
                </a:moveTo>
                <a:cubicBezTo>
                  <a:pt x="20994" y="10400"/>
                  <a:pt x="20636" y="10533"/>
                  <a:pt x="20836" y="10691"/>
                </a:cubicBezTo>
                <a:cubicBezTo>
                  <a:pt x="20999" y="10820"/>
                  <a:pt x="21065" y="10775"/>
                  <a:pt x="21158" y="10964"/>
                </a:cubicBezTo>
                <a:cubicBezTo>
                  <a:pt x="21125" y="10989"/>
                  <a:pt x="21092" y="11013"/>
                  <a:pt x="21059" y="11038"/>
                </a:cubicBezTo>
                <a:cubicBezTo>
                  <a:pt x="20832" y="10892"/>
                  <a:pt x="20941" y="10768"/>
                  <a:pt x="21059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9000" y="4098960"/>
            <a:ext cx="687240" cy="758880"/>
          </a:xfrm>
          <a:custGeom>
            <a:avLst/>
            <a:gdLst/>
            <a:ahLst/>
            <a:rect l="l" t="t" r="r" b="b"/>
            <a:pathLst>
              <a:path w="1911" h="2110">
                <a:moveTo>
                  <a:pt x="19596" y="11733"/>
                </a:moveTo>
                <a:cubicBezTo>
                  <a:pt x="19596" y="11774"/>
                  <a:pt x="19596" y="11816"/>
                  <a:pt x="19596" y="11857"/>
                </a:cubicBezTo>
                <a:cubicBezTo>
                  <a:pt x="19927" y="11763"/>
                  <a:pt x="20172" y="11739"/>
                  <a:pt x="20513" y="11757"/>
                </a:cubicBezTo>
                <a:cubicBezTo>
                  <a:pt x="20591" y="11757"/>
                  <a:pt x="20610" y="11742"/>
                  <a:pt x="20638" y="11782"/>
                </a:cubicBezTo>
                <a:cubicBezTo>
                  <a:pt x="20685" y="11668"/>
                  <a:pt x="20662" y="11516"/>
                  <a:pt x="20662" y="11385"/>
                </a:cubicBezTo>
              </a:path>
              <a:path w="1911" h="2110">
                <a:moveTo>
                  <a:pt x="20340" y="12353"/>
                </a:moveTo>
                <a:cubicBezTo>
                  <a:pt x="20200" y="12406"/>
                  <a:pt x="20079" y="12426"/>
                  <a:pt x="20017" y="12576"/>
                </a:cubicBezTo>
                <a:cubicBezTo>
                  <a:pt x="20009" y="12617"/>
                  <a:pt x="20001" y="12659"/>
                  <a:pt x="19993" y="12700"/>
                </a:cubicBezTo>
                <a:cubicBezTo>
                  <a:pt x="20026" y="12768"/>
                  <a:pt x="20151" y="12604"/>
                  <a:pt x="20290" y="12601"/>
                </a:cubicBezTo>
                <a:cubicBezTo>
                  <a:pt x="20430" y="12624"/>
                  <a:pt x="20472" y="12627"/>
                  <a:pt x="20538" y="12700"/>
                </a:cubicBezTo>
                <a:cubicBezTo>
                  <a:pt x="20426" y="12868"/>
                  <a:pt x="20403" y="12827"/>
                  <a:pt x="20191" y="12849"/>
                </a:cubicBezTo>
              </a:path>
              <a:path w="1911" h="2110">
                <a:moveTo>
                  <a:pt x="19819" y="13419"/>
                </a:moveTo>
                <a:cubicBezTo>
                  <a:pt x="20289" y="13375"/>
                  <a:pt x="20891" y="13319"/>
                  <a:pt x="21134" y="12824"/>
                </a:cubicBezTo>
                <a:cubicBezTo>
                  <a:pt x="21441" y="12198"/>
                  <a:pt x="20625" y="11994"/>
                  <a:pt x="20191" y="12129"/>
                </a:cubicBezTo>
                <a:cubicBezTo>
                  <a:pt x="19407" y="12373"/>
                  <a:pt x="19148" y="12968"/>
                  <a:pt x="19571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286160"/>
            <a:ext cx="17640" cy="214560"/>
          </a:xfrm>
          <a:custGeom>
            <a:avLst/>
            <a:gdLst/>
            <a:ahLst/>
            <a:rect l="l" t="t" r="r" b="b"/>
            <a:pathLst>
              <a:path w="50" h="597">
                <a:moveTo>
                  <a:pt x="13171" y="11906"/>
                </a:moveTo>
                <a:cubicBezTo>
                  <a:pt x="13149" y="12104"/>
                  <a:pt x="13137" y="12303"/>
                  <a:pt x="13122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57840" y="4276800"/>
            <a:ext cx="160200" cy="233280"/>
          </a:xfrm>
          <a:custGeom>
            <a:avLst/>
            <a:gdLst/>
            <a:ahLst/>
            <a:rect l="l" t="t" r="r" b="b"/>
            <a:pathLst>
              <a:path w="447" h="646">
                <a:moveTo>
                  <a:pt x="13543" y="11881"/>
                </a:moveTo>
                <a:cubicBezTo>
                  <a:pt x="13533" y="12042"/>
                  <a:pt x="13451" y="12246"/>
                  <a:pt x="13519" y="12402"/>
                </a:cubicBezTo>
                <a:cubicBezTo>
                  <a:pt x="13636" y="12673"/>
                  <a:pt x="13880" y="12318"/>
                  <a:pt x="13940" y="12229"/>
                </a:cubicBezTo>
                <a:cubicBezTo>
                  <a:pt x="13940" y="12221"/>
                  <a:pt x="13940" y="12212"/>
                  <a:pt x="13940" y="12204"/>
                </a:cubicBezTo>
                <a:cubicBezTo>
                  <a:pt x="13705" y="12215"/>
                  <a:pt x="13658" y="12283"/>
                  <a:pt x="1361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6680" y="4446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213" y="12353"/>
                </a:moveTo>
                <a:lnTo>
                  <a:pt x="14213" y="123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05240" y="4276800"/>
            <a:ext cx="1177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4511" y="11931"/>
                </a:moveTo>
                <a:cubicBezTo>
                  <a:pt x="14588" y="11879"/>
                  <a:pt x="14616" y="11863"/>
                  <a:pt x="14684" y="11881"/>
                </a:cubicBezTo>
                <a:cubicBezTo>
                  <a:pt x="14779" y="12051"/>
                  <a:pt x="14843" y="12294"/>
                  <a:pt x="14536" y="12303"/>
                </a:cubicBezTo>
                <a:cubicBezTo>
                  <a:pt x="14511" y="12287"/>
                  <a:pt x="14486" y="12270"/>
                  <a:pt x="14461" y="12254"/>
                </a:cubicBezTo>
                <a:cubicBezTo>
                  <a:pt x="14504" y="12112"/>
                  <a:pt x="14648" y="12128"/>
                  <a:pt x="14759" y="12254"/>
                </a:cubicBezTo>
                <a:cubicBezTo>
                  <a:pt x="14767" y="12279"/>
                  <a:pt x="14776" y="12303"/>
                  <a:pt x="14784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11880" y="4259160"/>
            <a:ext cx="169920" cy="1796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5255" y="11832"/>
                </a:moveTo>
                <a:cubicBezTo>
                  <a:pt x="15131" y="11842"/>
                  <a:pt x="15073" y="11845"/>
                  <a:pt x="15032" y="11981"/>
                </a:cubicBezTo>
                <a:cubicBezTo>
                  <a:pt x="15032" y="11997"/>
                  <a:pt x="15032" y="12014"/>
                  <a:pt x="15032" y="12030"/>
                </a:cubicBezTo>
                <a:cubicBezTo>
                  <a:pt x="15200" y="12020"/>
                  <a:pt x="15364" y="11939"/>
                  <a:pt x="15478" y="12105"/>
                </a:cubicBezTo>
                <a:cubicBezTo>
                  <a:pt x="15596" y="12277"/>
                  <a:pt x="15370" y="12298"/>
                  <a:pt x="15280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75120" y="4599000"/>
            <a:ext cx="108000" cy="179280"/>
          </a:xfrm>
          <a:custGeom>
            <a:avLst/>
            <a:gdLst/>
            <a:ahLst/>
            <a:rect l="l" t="t" r="r" b="b"/>
            <a:pathLst>
              <a:path w="299" h="498">
                <a:moveTo>
                  <a:pt x="13767" y="12799"/>
                </a:moveTo>
                <a:cubicBezTo>
                  <a:pt x="13617" y="12787"/>
                  <a:pt x="13632" y="12799"/>
                  <a:pt x="13543" y="12923"/>
                </a:cubicBezTo>
                <a:cubicBezTo>
                  <a:pt x="13638" y="13030"/>
                  <a:pt x="13762" y="13079"/>
                  <a:pt x="13841" y="13196"/>
                </a:cubicBezTo>
                <a:cubicBezTo>
                  <a:pt x="13717" y="13267"/>
                  <a:pt x="13462" y="13302"/>
                  <a:pt x="13643" y="13047"/>
                </a:cubicBezTo>
                <a:cubicBezTo>
                  <a:pt x="13744" y="12966"/>
                  <a:pt x="13765" y="12955"/>
                  <a:pt x="1381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6680" y="468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213" y="13022"/>
                </a:moveTo>
                <a:lnTo>
                  <a:pt x="14213" y="130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2240" y="4589640"/>
            <a:ext cx="15264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14684" y="12750"/>
                </a:moveTo>
                <a:cubicBezTo>
                  <a:pt x="14570" y="12764"/>
                  <a:pt x="14472" y="12905"/>
                  <a:pt x="14536" y="13022"/>
                </a:cubicBezTo>
                <a:cubicBezTo>
                  <a:pt x="14619" y="13175"/>
                  <a:pt x="14976" y="13077"/>
                  <a:pt x="14957" y="12898"/>
                </a:cubicBezTo>
                <a:cubicBezTo>
                  <a:pt x="14878" y="12792"/>
                  <a:pt x="14844" y="12757"/>
                  <a:pt x="1473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4554360"/>
            <a:ext cx="1447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5329" y="12650"/>
                </a:moveTo>
                <a:cubicBezTo>
                  <a:pt x="15190" y="12759"/>
                  <a:pt x="15174" y="12817"/>
                  <a:pt x="15230" y="12973"/>
                </a:cubicBezTo>
                <a:cubicBezTo>
                  <a:pt x="15429" y="12923"/>
                  <a:pt x="15631" y="12903"/>
                  <a:pt x="15503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62640" y="4776840"/>
            <a:ext cx="1134720" cy="46080"/>
          </a:xfrm>
          <a:custGeom>
            <a:avLst/>
            <a:gdLst/>
            <a:ahLst/>
            <a:rect l="l" t="t" r="r" b="b"/>
            <a:pathLst>
              <a:path w="3151" h="125">
                <a:moveTo>
                  <a:pt x="12675" y="13345"/>
                </a:moveTo>
                <a:cubicBezTo>
                  <a:pt x="12815" y="13320"/>
                  <a:pt x="12942" y="13388"/>
                  <a:pt x="13097" y="13395"/>
                </a:cubicBezTo>
                <a:cubicBezTo>
                  <a:pt x="13632" y="13418"/>
                  <a:pt x="14153" y="13360"/>
                  <a:pt x="14684" y="13320"/>
                </a:cubicBezTo>
                <a:cubicBezTo>
                  <a:pt x="15047" y="13293"/>
                  <a:pt x="15412" y="13271"/>
                  <a:pt x="15776" y="13271"/>
                </a:cubicBezTo>
                <a:cubicBezTo>
                  <a:pt x="15792" y="13271"/>
                  <a:pt x="15809" y="13271"/>
                  <a:pt x="15825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8080" y="4867200"/>
            <a:ext cx="1620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15652" y="13519"/>
                </a:moveTo>
                <a:cubicBezTo>
                  <a:pt x="15430" y="13543"/>
                  <a:pt x="15417" y="13541"/>
                  <a:pt x="15329" y="13767"/>
                </a:cubicBezTo>
                <a:cubicBezTo>
                  <a:pt x="15422" y="13779"/>
                  <a:pt x="15608" y="13685"/>
                  <a:pt x="15726" y="13767"/>
                </a:cubicBezTo>
                <a:cubicBezTo>
                  <a:pt x="15950" y="13923"/>
                  <a:pt x="15546" y="14045"/>
                  <a:pt x="1547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68960" y="4894200"/>
            <a:ext cx="13320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4784" y="13692"/>
                </a:moveTo>
                <a:cubicBezTo>
                  <a:pt x="14831" y="13621"/>
                  <a:pt x="14844" y="13597"/>
                  <a:pt x="14908" y="13593"/>
                </a:cubicBezTo>
                <a:cubicBezTo>
                  <a:pt x="14975" y="13778"/>
                  <a:pt x="15011" y="14043"/>
                  <a:pt x="14734" y="14114"/>
                </a:cubicBezTo>
                <a:cubicBezTo>
                  <a:pt x="14701" y="14106"/>
                  <a:pt x="14668" y="14097"/>
                  <a:pt x="14635" y="14089"/>
                </a:cubicBezTo>
                <a:cubicBezTo>
                  <a:pt x="14657" y="13926"/>
                  <a:pt x="14705" y="13841"/>
                  <a:pt x="14883" y="13940"/>
                </a:cubicBezTo>
                <a:cubicBezTo>
                  <a:pt x="14964" y="14001"/>
                  <a:pt x="14986" y="14006"/>
                  <a:pt x="1500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99040" y="5045040"/>
            <a:ext cx="36360" cy="460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14263" y="14114"/>
                </a:moveTo>
                <a:cubicBezTo>
                  <a:pt x="14066" y="14040"/>
                  <a:pt x="14254" y="14220"/>
                  <a:pt x="14263" y="14064"/>
                </a:cubicBezTo>
                <a:cubicBezTo>
                  <a:pt x="14255" y="14048"/>
                  <a:pt x="14246" y="14031"/>
                  <a:pt x="14238" y="14015"/>
                </a:cubicBezTo>
                <a:cubicBezTo>
                  <a:pt x="14177" y="14066"/>
                  <a:pt x="14317" y="14053"/>
                  <a:pt x="14238" y="14064"/>
                </a:cubicBezTo>
                <a:cubicBezTo>
                  <a:pt x="14221" y="14072"/>
                  <a:pt x="14205" y="14081"/>
                  <a:pt x="14188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75080" y="46609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2154" y="12948"/>
                </a:moveTo>
                <a:cubicBezTo>
                  <a:pt x="12245" y="12948"/>
                  <a:pt x="12336" y="12948"/>
                  <a:pt x="12427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40200" y="4946760"/>
            <a:ext cx="16056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13841" y="13742"/>
                </a:moveTo>
                <a:cubicBezTo>
                  <a:pt x="13690" y="13797"/>
                  <a:pt x="13544" y="13782"/>
                  <a:pt x="13444" y="13915"/>
                </a:cubicBezTo>
                <a:cubicBezTo>
                  <a:pt x="13550" y="14053"/>
                  <a:pt x="13829" y="14093"/>
                  <a:pt x="13891" y="14263"/>
                </a:cubicBezTo>
                <a:cubicBezTo>
                  <a:pt x="13883" y="14288"/>
                  <a:pt x="13874" y="14312"/>
                  <a:pt x="13866" y="14337"/>
                </a:cubicBezTo>
                <a:cubicBezTo>
                  <a:pt x="13631" y="14300"/>
                  <a:pt x="13567" y="14250"/>
                  <a:pt x="13667" y="14015"/>
                </a:cubicBezTo>
                <a:cubicBezTo>
                  <a:pt x="13722" y="13886"/>
                  <a:pt x="13807" y="13849"/>
                  <a:pt x="1374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33920" y="4776840"/>
            <a:ext cx="1144440" cy="554040"/>
          </a:xfrm>
          <a:custGeom>
            <a:avLst/>
            <a:gdLst/>
            <a:ahLst/>
            <a:rect l="l" t="t" r="r" b="b"/>
            <a:pathLst>
              <a:path w="3176" h="1538">
                <a:moveTo>
                  <a:pt x="13370" y="14709"/>
                </a:moveTo>
                <a:cubicBezTo>
                  <a:pt x="13570" y="14766"/>
                  <a:pt x="13761" y="14805"/>
                  <a:pt x="13990" y="14808"/>
                </a:cubicBezTo>
                <a:cubicBezTo>
                  <a:pt x="14270" y="14812"/>
                  <a:pt x="14555" y="14790"/>
                  <a:pt x="14833" y="14759"/>
                </a:cubicBezTo>
                <a:cubicBezTo>
                  <a:pt x="15046" y="14735"/>
                  <a:pt x="15258" y="14725"/>
                  <a:pt x="15453" y="14635"/>
                </a:cubicBezTo>
                <a:cubicBezTo>
                  <a:pt x="15582" y="14576"/>
                  <a:pt x="15633" y="14511"/>
                  <a:pt x="15726" y="14412"/>
                </a:cubicBezTo>
                <a:cubicBezTo>
                  <a:pt x="15813" y="14319"/>
                  <a:pt x="15885" y="14224"/>
                  <a:pt x="15949" y="14114"/>
                </a:cubicBezTo>
                <a:cubicBezTo>
                  <a:pt x="15989" y="14047"/>
                  <a:pt x="16002" y="13983"/>
                  <a:pt x="16024" y="13915"/>
                </a:cubicBezTo>
                <a:cubicBezTo>
                  <a:pt x="16053" y="13824"/>
                  <a:pt x="16053" y="13804"/>
                  <a:pt x="16024" y="13717"/>
                </a:cubicBezTo>
                <a:cubicBezTo>
                  <a:pt x="16008" y="13669"/>
                  <a:pt x="15961" y="13579"/>
                  <a:pt x="15925" y="13543"/>
                </a:cubicBezTo>
                <a:cubicBezTo>
                  <a:pt x="15872" y="13490"/>
                  <a:pt x="15789" y="13460"/>
                  <a:pt x="15726" y="13419"/>
                </a:cubicBezTo>
                <a:cubicBezTo>
                  <a:pt x="15657" y="13374"/>
                  <a:pt x="15562" y="13338"/>
                  <a:pt x="15478" y="13320"/>
                </a:cubicBezTo>
                <a:cubicBezTo>
                  <a:pt x="15369" y="13297"/>
                  <a:pt x="15246" y="13274"/>
                  <a:pt x="15131" y="13271"/>
                </a:cubicBezTo>
                <a:cubicBezTo>
                  <a:pt x="14946" y="13265"/>
                  <a:pt x="14765" y="13276"/>
                  <a:pt x="14585" y="13295"/>
                </a:cubicBezTo>
                <a:cubicBezTo>
                  <a:pt x="14480" y="13306"/>
                  <a:pt x="14367" y="13312"/>
                  <a:pt x="14263" y="13320"/>
                </a:cubicBezTo>
                <a:cubicBezTo>
                  <a:pt x="14093" y="13333"/>
                  <a:pt x="13936" y="13365"/>
                  <a:pt x="13767" y="13395"/>
                </a:cubicBezTo>
                <a:cubicBezTo>
                  <a:pt x="13607" y="13423"/>
                  <a:pt x="13459" y="13456"/>
                  <a:pt x="13320" y="13543"/>
                </a:cubicBezTo>
                <a:cubicBezTo>
                  <a:pt x="13239" y="13594"/>
                  <a:pt x="13136" y="13645"/>
                  <a:pt x="13072" y="13717"/>
                </a:cubicBezTo>
                <a:cubicBezTo>
                  <a:pt x="13003" y="13795"/>
                  <a:pt x="12936" y="13897"/>
                  <a:pt x="12898" y="13990"/>
                </a:cubicBezTo>
                <a:cubicBezTo>
                  <a:pt x="12865" y="14071"/>
                  <a:pt x="12844" y="14252"/>
                  <a:pt x="12874" y="14337"/>
                </a:cubicBezTo>
                <a:cubicBezTo>
                  <a:pt x="12903" y="14418"/>
                  <a:pt x="12996" y="14518"/>
                  <a:pt x="13047" y="14585"/>
                </a:cubicBezTo>
                <a:cubicBezTo>
                  <a:pt x="13137" y="14702"/>
                  <a:pt x="13283" y="14698"/>
                  <a:pt x="13419" y="14709"/>
                </a:cubicBezTo>
                <a:cubicBezTo>
                  <a:pt x="13517" y="14717"/>
                  <a:pt x="13617" y="14761"/>
                  <a:pt x="13717" y="14759"/>
                </a:cubicBezTo>
                <a:cubicBezTo>
                  <a:pt x="13832" y="14756"/>
                  <a:pt x="13946" y="14734"/>
                  <a:pt x="14064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evaluate algebraic expr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f y = 12, evalu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– 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38 +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f x = 9 and z = 3, evalu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– 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x + 4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3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0080" y="1544760"/>
            <a:ext cx="830160" cy="117360"/>
          </a:xfrm>
          <a:custGeom>
            <a:avLst/>
            <a:gdLst/>
            <a:ahLst/>
            <a:rect l="l" t="t" r="r" b="b"/>
            <a:pathLst>
              <a:path w="2308" h="324">
                <a:moveTo>
                  <a:pt x="2828" y="4614"/>
                </a:moveTo>
                <a:cubicBezTo>
                  <a:pt x="2811" y="4606"/>
                  <a:pt x="2795" y="4597"/>
                  <a:pt x="2778" y="4589"/>
                </a:cubicBezTo>
                <a:cubicBezTo>
                  <a:pt x="2937" y="4543"/>
                  <a:pt x="3087" y="4535"/>
                  <a:pt x="3249" y="4514"/>
                </a:cubicBezTo>
                <a:cubicBezTo>
                  <a:pt x="3355" y="4501"/>
                  <a:pt x="3471" y="4466"/>
                  <a:pt x="3572" y="4440"/>
                </a:cubicBezTo>
                <a:cubicBezTo>
                  <a:pt x="3660" y="4418"/>
                  <a:pt x="3734" y="4356"/>
                  <a:pt x="3820" y="4341"/>
                </a:cubicBezTo>
                <a:cubicBezTo>
                  <a:pt x="3909" y="4325"/>
                  <a:pt x="4004" y="4305"/>
                  <a:pt x="4093" y="4291"/>
                </a:cubicBezTo>
                <a:cubicBezTo>
                  <a:pt x="4245" y="4267"/>
                  <a:pt x="4428" y="4301"/>
                  <a:pt x="4564" y="4316"/>
                </a:cubicBezTo>
                <a:cubicBezTo>
                  <a:pt x="4647" y="4325"/>
                  <a:pt x="4730" y="4337"/>
                  <a:pt x="4812" y="4341"/>
                </a:cubicBezTo>
                <a:cubicBezTo>
                  <a:pt x="4879" y="4345"/>
                  <a:pt x="4927" y="4348"/>
                  <a:pt x="4986" y="4366"/>
                </a:cubicBezTo>
                <a:cubicBezTo>
                  <a:pt x="5007" y="4373"/>
                  <a:pt x="5064" y="4405"/>
                  <a:pt x="5085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760" y="2608200"/>
            <a:ext cx="1116000" cy="722520"/>
          </a:xfrm>
          <a:custGeom>
            <a:avLst/>
            <a:gdLst/>
            <a:ahLst/>
            <a:rect l="l" t="t" r="r" b="b"/>
            <a:pathLst>
              <a:path w="3101" h="2010">
                <a:moveTo>
                  <a:pt x="1191" y="8706"/>
                </a:moveTo>
                <a:lnTo>
                  <a:pt x="1191" y="8706"/>
                </a:lnTo>
              </a:path>
              <a:path w="3101" h="2010">
                <a:moveTo>
                  <a:pt x="2232" y="7317"/>
                </a:moveTo>
                <a:cubicBezTo>
                  <a:pt x="2334" y="7262"/>
                  <a:pt x="2314" y="7252"/>
                  <a:pt x="2406" y="7293"/>
                </a:cubicBezTo>
                <a:cubicBezTo>
                  <a:pt x="2418" y="7449"/>
                  <a:pt x="2373" y="7482"/>
                  <a:pt x="2232" y="7565"/>
                </a:cubicBezTo>
                <a:cubicBezTo>
                  <a:pt x="2436" y="7566"/>
                  <a:pt x="2534" y="7715"/>
                  <a:pt x="2307" y="7863"/>
                </a:cubicBezTo>
                <a:cubicBezTo>
                  <a:pt x="2161" y="7958"/>
                  <a:pt x="2117" y="7938"/>
                  <a:pt x="2084" y="7838"/>
                </a:cubicBezTo>
              </a:path>
              <a:path w="3101" h="2010">
                <a:moveTo>
                  <a:pt x="2803" y="7417"/>
                </a:moveTo>
                <a:cubicBezTo>
                  <a:pt x="2874" y="7519"/>
                  <a:pt x="2945" y="7620"/>
                  <a:pt x="3026" y="7714"/>
                </a:cubicBezTo>
              </a:path>
              <a:path w="3101" h="2010">
                <a:moveTo>
                  <a:pt x="3001" y="7392"/>
                </a:moveTo>
                <a:cubicBezTo>
                  <a:pt x="2936" y="7547"/>
                  <a:pt x="2893" y="7708"/>
                  <a:pt x="2828" y="7863"/>
                </a:cubicBezTo>
              </a:path>
              <a:path w="3101" h="2010">
                <a:moveTo>
                  <a:pt x="3324" y="7342"/>
                </a:moveTo>
                <a:cubicBezTo>
                  <a:pt x="3350" y="7480"/>
                  <a:pt x="3361" y="7623"/>
                  <a:pt x="3373" y="7764"/>
                </a:cubicBezTo>
              </a:path>
              <a:path w="3101" h="2010">
                <a:moveTo>
                  <a:pt x="3696" y="7317"/>
                </a:moveTo>
                <a:cubicBezTo>
                  <a:pt x="3820" y="7297"/>
                  <a:pt x="3878" y="7309"/>
                  <a:pt x="3870" y="7466"/>
                </a:cubicBezTo>
                <a:cubicBezTo>
                  <a:pt x="3863" y="7597"/>
                  <a:pt x="3788" y="7684"/>
                  <a:pt x="3721" y="7789"/>
                </a:cubicBezTo>
                <a:cubicBezTo>
                  <a:pt x="3840" y="7789"/>
                  <a:pt x="3951" y="7775"/>
                  <a:pt x="4068" y="7764"/>
                </a:cubicBezTo>
              </a:path>
              <a:path w="3101" h="2010">
                <a:moveTo>
                  <a:pt x="2654" y="8409"/>
                </a:moveTo>
                <a:cubicBezTo>
                  <a:pt x="2695" y="8374"/>
                  <a:pt x="2879" y="8305"/>
                  <a:pt x="2853" y="8458"/>
                </a:cubicBezTo>
                <a:cubicBezTo>
                  <a:pt x="2847" y="8491"/>
                  <a:pt x="2665" y="8709"/>
                  <a:pt x="2778" y="8558"/>
                </a:cubicBezTo>
                <a:cubicBezTo>
                  <a:pt x="2929" y="8608"/>
                  <a:pt x="2940" y="8583"/>
                  <a:pt x="2977" y="8731"/>
                </a:cubicBezTo>
                <a:cubicBezTo>
                  <a:pt x="2829" y="8813"/>
                  <a:pt x="2811" y="8833"/>
                  <a:pt x="2654" y="8781"/>
                </a:cubicBezTo>
              </a:path>
              <a:path w="3101" h="2010">
                <a:moveTo>
                  <a:pt x="3200" y="8310"/>
                </a:moveTo>
                <a:cubicBezTo>
                  <a:pt x="3219" y="8443"/>
                  <a:pt x="3198" y="8605"/>
                  <a:pt x="3249" y="8731"/>
                </a:cubicBezTo>
                <a:cubicBezTo>
                  <a:pt x="3266" y="8748"/>
                  <a:pt x="3282" y="8764"/>
                  <a:pt x="3299" y="8781"/>
                </a:cubicBezTo>
                <a:cubicBezTo>
                  <a:pt x="3504" y="8744"/>
                  <a:pt x="3572" y="8695"/>
                  <a:pt x="3572" y="8483"/>
                </a:cubicBezTo>
                <a:cubicBezTo>
                  <a:pt x="3447" y="8545"/>
                  <a:pt x="3423" y="8625"/>
                  <a:pt x="3349" y="8756"/>
                </a:cubicBezTo>
              </a:path>
              <a:path w="3101" h="2010">
                <a:moveTo>
                  <a:pt x="2505" y="9128"/>
                </a:moveTo>
                <a:cubicBezTo>
                  <a:pt x="2866" y="9235"/>
                  <a:pt x="3153" y="9226"/>
                  <a:pt x="3522" y="9153"/>
                </a:cubicBezTo>
                <a:cubicBezTo>
                  <a:pt x="3755" y="9107"/>
                  <a:pt x="4105" y="9026"/>
                  <a:pt x="4242" y="8806"/>
                </a:cubicBezTo>
                <a:cubicBezTo>
                  <a:pt x="4352" y="8629"/>
                  <a:pt x="4281" y="8430"/>
                  <a:pt x="4167" y="8285"/>
                </a:cubicBezTo>
                <a:cubicBezTo>
                  <a:pt x="4075" y="8167"/>
                  <a:pt x="3956" y="8094"/>
                  <a:pt x="3820" y="8037"/>
                </a:cubicBezTo>
                <a:cubicBezTo>
                  <a:pt x="3650" y="7966"/>
                  <a:pt x="3513" y="7947"/>
                  <a:pt x="3324" y="7962"/>
                </a:cubicBezTo>
                <a:cubicBezTo>
                  <a:pt x="3101" y="7980"/>
                  <a:pt x="2901" y="8032"/>
                  <a:pt x="2704" y="8136"/>
                </a:cubicBezTo>
                <a:cubicBezTo>
                  <a:pt x="2530" y="8228"/>
                  <a:pt x="2399" y="8325"/>
                  <a:pt x="2282" y="8483"/>
                </a:cubicBezTo>
                <a:cubicBezTo>
                  <a:pt x="2213" y="8576"/>
                  <a:pt x="2155" y="8763"/>
                  <a:pt x="2158" y="8880"/>
                </a:cubicBezTo>
                <a:cubicBezTo>
                  <a:pt x="2164" y="9116"/>
                  <a:pt x="2428" y="9179"/>
                  <a:pt x="2604" y="9227"/>
                </a:cubicBezTo>
                <a:cubicBezTo>
                  <a:pt x="2720" y="9250"/>
                  <a:pt x="2752" y="9258"/>
                  <a:pt x="2828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46080" y="4152960"/>
            <a:ext cx="536760" cy="54000"/>
          </a:xfrm>
          <a:custGeom>
            <a:avLst/>
            <a:gdLst/>
            <a:ahLst/>
            <a:rect l="l" t="t" r="r" b="b"/>
            <a:pathLst>
              <a:path w="1490" h="150">
                <a:moveTo>
                  <a:pt x="2629" y="11658"/>
                </a:moveTo>
                <a:cubicBezTo>
                  <a:pt x="2702" y="11668"/>
                  <a:pt x="2745" y="11683"/>
                  <a:pt x="2828" y="11683"/>
                </a:cubicBezTo>
                <a:cubicBezTo>
                  <a:pt x="2925" y="11683"/>
                  <a:pt x="3008" y="11686"/>
                  <a:pt x="3101" y="11658"/>
                </a:cubicBezTo>
                <a:cubicBezTo>
                  <a:pt x="3178" y="11635"/>
                  <a:pt x="3250" y="11626"/>
                  <a:pt x="3324" y="11609"/>
                </a:cubicBezTo>
                <a:cubicBezTo>
                  <a:pt x="3408" y="11590"/>
                  <a:pt x="3486" y="11564"/>
                  <a:pt x="3572" y="11559"/>
                </a:cubicBezTo>
                <a:cubicBezTo>
                  <a:pt x="3651" y="11555"/>
                  <a:pt x="3729" y="11546"/>
                  <a:pt x="3795" y="11534"/>
                </a:cubicBezTo>
                <a:cubicBezTo>
                  <a:pt x="3886" y="11517"/>
                  <a:pt x="3992" y="11544"/>
                  <a:pt x="4068" y="11559"/>
                </a:cubicBezTo>
                <a:cubicBezTo>
                  <a:pt x="4085" y="11559"/>
                  <a:pt x="4101" y="11559"/>
                  <a:pt x="4118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9200" y="2678040"/>
            <a:ext cx="706680" cy="743040"/>
          </a:xfrm>
          <a:custGeom>
            <a:avLst/>
            <a:gdLst/>
            <a:ahLst/>
            <a:rect l="l" t="t" r="r" b="b"/>
            <a:pathLst>
              <a:path w="1961" h="2060">
                <a:moveTo>
                  <a:pt x="6722" y="7541"/>
                </a:moveTo>
                <a:cubicBezTo>
                  <a:pt x="6722" y="7761"/>
                  <a:pt x="6750" y="7947"/>
                  <a:pt x="6796" y="8161"/>
                </a:cubicBezTo>
              </a:path>
              <a:path w="1961" h="2060">
                <a:moveTo>
                  <a:pt x="6945" y="7565"/>
                </a:moveTo>
                <a:cubicBezTo>
                  <a:pt x="7109" y="7552"/>
                  <a:pt x="7170" y="7546"/>
                  <a:pt x="7317" y="7615"/>
                </a:cubicBezTo>
                <a:cubicBezTo>
                  <a:pt x="7270" y="7796"/>
                  <a:pt x="7243" y="7847"/>
                  <a:pt x="7119" y="7987"/>
                </a:cubicBezTo>
                <a:cubicBezTo>
                  <a:pt x="7237" y="7982"/>
                  <a:pt x="7349" y="7970"/>
                  <a:pt x="7466" y="7962"/>
                </a:cubicBezTo>
              </a:path>
              <a:path w="1961" h="2060">
                <a:moveTo>
                  <a:pt x="7714" y="7739"/>
                </a:moveTo>
                <a:cubicBezTo>
                  <a:pt x="7812" y="7739"/>
                  <a:pt x="7891" y="7746"/>
                  <a:pt x="7987" y="7764"/>
                </a:cubicBezTo>
              </a:path>
              <a:path w="1961" h="2060">
                <a:moveTo>
                  <a:pt x="8285" y="7565"/>
                </a:moveTo>
                <a:cubicBezTo>
                  <a:pt x="8299" y="7686"/>
                  <a:pt x="8318" y="7800"/>
                  <a:pt x="8359" y="7913"/>
                </a:cubicBezTo>
              </a:path>
              <a:path w="1961" h="2060">
                <a:moveTo>
                  <a:pt x="8632" y="7441"/>
                </a:moveTo>
                <a:cubicBezTo>
                  <a:pt x="8650" y="7600"/>
                  <a:pt x="8630" y="7800"/>
                  <a:pt x="8682" y="7938"/>
                </a:cubicBezTo>
              </a:path>
              <a:path w="1961" h="2060">
                <a:moveTo>
                  <a:pt x="7863" y="8682"/>
                </a:moveTo>
                <a:cubicBezTo>
                  <a:pt x="7850" y="8851"/>
                  <a:pt x="7858" y="8984"/>
                  <a:pt x="7888" y="9153"/>
                </a:cubicBezTo>
              </a:path>
              <a:path w="1961" h="2060">
                <a:moveTo>
                  <a:pt x="7417" y="9302"/>
                </a:moveTo>
                <a:cubicBezTo>
                  <a:pt x="7663" y="9537"/>
                  <a:pt x="7976" y="9572"/>
                  <a:pt x="8334" y="9451"/>
                </a:cubicBezTo>
                <a:cubicBezTo>
                  <a:pt x="8687" y="9331"/>
                  <a:pt x="8752" y="8968"/>
                  <a:pt x="8607" y="8657"/>
                </a:cubicBezTo>
                <a:cubicBezTo>
                  <a:pt x="8457" y="8334"/>
                  <a:pt x="8124" y="8175"/>
                  <a:pt x="7789" y="8285"/>
                </a:cubicBezTo>
                <a:cubicBezTo>
                  <a:pt x="7490" y="8383"/>
                  <a:pt x="7250" y="8718"/>
                  <a:pt x="7243" y="9029"/>
                </a:cubicBezTo>
                <a:cubicBezTo>
                  <a:pt x="7236" y="9373"/>
                  <a:pt x="7390" y="9399"/>
                  <a:pt x="764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89120" y="4133880"/>
            <a:ext cx="590760" cy="90360"/>
          </a:xfrm>
          <a:custGeom>
            <a:avLst/>
            <a:gdLst/>
            <a:ahLst/>
            <a:rect l="l" t="t" r="r" b="b"/>
            <a:pathLst>
              <a:path w="1638" h="249">
                <a:moveTo>
                  <a:pt x="7218" y="11683"/>
                </a:moveTo>
                <a:cubicBezTo>
                  <a:pt x="7241" y="11730"/>
                  <a:pt x="7403" y="11749"/>
                  <a:pt x="7516" y="11733"/>
                </a:cubicBezTo>
                <a:cubicBezTo>
                  <a:pt x="7635" y="11716"/>
                  <a:pt x="7747" y="11690"/>
                  <a:pt x="7863" y="11658"/>
                </a:cubicBezTo>
                <a:cubicBezTo>
                  <a:pt x="7974" y="11627"/>
                  <a:pt x="8097" y="11575"/>
                  <a:pt x="8210" y="11559"/>
                </a:cubicBezTo>
                <a:cubicBezTo>
                  <a:pt x="8301" y="11546"/>
                  <a:pt x="8393" y="11528"/>
                  <a:pt x="8483" y="11509"/>
                </a:cubicBezTo>
                <a:cubicBezTo>
                  <a:pt x="8571" y="11490"/>
                  <a:pt x="8597" y="11471"/>
                  <a:pt x="8682" y="11509"/>
                </a:cubicBezTo>
                <a:cubicBezTo>
                  <a:pt x="8732" y="11531"/>
                  <a:pt x="8781" y="11559"/>
                  <a:pt x="8830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83240" y="2820960"/>
            <a:ext cx="946440" cy="1260360"/>
          </a:xfrm>
          <a:custGeom>
            <a:avLst/>
            <a:gdLst/>
            <a:ahLst/>
            <a:rect l="l" t="t" r="r" b="b"/>
            <a:pathLst>
              <a:path w="2631" h="3499">
                <a:moveTo>
                  <a:pt x="18827" y="8359"/>
                </a:moveTo>
                <a:cubicBezTo>
                  <a:pt x="18856" y="8528"/>
                  <a:pt x="18887" y="8672"/>
                  <a:pt x="18951" y="8830"/>
                </a:cubicBezTo>
              </a:path>
              <a:path w="2631" h="3499">
                <a:moveTo>
                  <a:pt x="19075" y="8310"/>
                </a:moveTo>
                <a:cubicBezTo>
                  <a:pt x="19186" y="8243"/>
                  <a:pt x="19212" y="8218"/>
                  <a:pt x="19298" y="8235"/>
                </a:cubicBezTo>
                <a:cubicBezTo>
                  <a:pt x="19339" y="8414"/>
                  <a:pt x="19287" y="8486"/>
                  <a:pt x="19174" y="8632"/>
                </a:cubicBezTo>
                <a:cubicBezTo>
                  <a:pt x="19104" y="8723"/>
                  <a:pt x="19409" y="8599"/>
                  <a:pt x="19447" y="8582"/>
                </a:cubicBezTo>
              </a:path>
              <a:path w="2631" h="3499">
                <a:moveTo>
                  <a:pt x="19422" y="7838"/>
                </a:moveTo>
                <a:cubicBezTo>
                  <a:pt x="19566" y="7838"/>
                  <a:pt x="19663" y="7859"/>
                  <a:pt x="19546" y="8037"/>
                </a:cubicBezTo>
                <a:cubicBezTo>
                  <a:pt x="19472" y="8111"/>
                  <a:pt x="19463" y="8120"/>
                  <a:pt x="19422" y="8161"/>
                </a:cubicBezTo>
                <a:cubicBezTo>
                  <a:pt x="19500" y="8148"/>
                  <a:pt x="19563" y="8136"/>
                  <a:pt x="19645" y="8136"/>
                </a:cubicBezTo>
                <a:cubicBezTo>
                  <a:pt x="19662" y="8136"/>
                  <a:pt x="19678" y="8136"/>
                  <a:pt x="19695" y="8136"/>
                </a:cubicBezTo>
              </a:path>
              <a:path w="2631" h="3499">
                <a:moveTo>
                  <a:pt x="18033" y="9401"/>
                </a:moveTo>
                <a:cubicBezTo>
                  <a:pt x="17983" y="9449"/>
                  <a:pt x="18053" y="9817"/>
                  <a:pt x="18083" y="9971"/>
                </a:cubicBezTo>
                <a:cubicBezTo>
                  <a:pt x="18091" y="9996"/>
                  <a:pt x="18099" y="10021"/>
                  <a:pt x="18107" y="10046"/>
                </a:cubicBezTo>
              </a:path>
              <a:path w="2631" h="3499">
                <a:moveTo>
                  <a:pt x="18380" y="9351"/>
                </a:moveTo>
                <a:cubicBezTo>
                  <a:pt x="18545" y="9418"/>
                  <a:pt x="19064" y="9638"/>
                  <a:pt x="18802" y="9922"/>
                </a:cubicBezTo>
                <a:cubicBezTo>
                  <a:pt x="18627" y="10112"/>
                  <a:pt x="18527" y="9848"/>
                  <a:pt x="18479" y="9748"/>
                </a:cubicBezTo>
                <a:cubicBezTo>
                  <a:pt x="18686" y="9652"/>
                  <a:pt x="18764" y="9776"/>
                  <a:pt x="18951" y="9922"/>
                </a:cubicBezTo>
              </a:path>
              <a:path w="2631" h="3499">
                <a:moveTo>
                  <a:pt x="19124" y="9525"/>
                </a:moveTo>
                <a:cubicBezTo>
                  <a:pt x="19217" y="9664"/>
                  <a:pt x="19241" y="9708"/>
                  <a:pt x="19348" y="9748"/>
                </a:cubicBezTo>
              </a:path>
              <a:path w="2631" h="3499">
                <a:moveTo>
                  <a:pt x="19273" y="9351"/>
                </a:moveTo>
                <a:cubicBezTo>
                  <a:pt x="19254" y="9543"/>
                  <a:pt x="19252" y="9706"/>
                  <a:pt x="19273" y="9897"/>
                </a:cubicBezTo>
              </a:path>
              <a:path w="2631" h="3499">
                <a:moveTo>
                  <a:pt x="19670" y="9252"/>
                </a:moveTo>
                <a:cubicBezTo>
                  <a:pt x="19701" y="9436"/>
                  <a:pt x="19731" y="9616"/>
                  <a:pt x="19769" y="9798"/>
                </a:cubicBezTo>
              </a:path>
              <a:path w="2631" h="3499">
                <a:moveTo>
                  <a:pt x="19968" y="9277"/>
                </a:moveTo>
                <a:cubicBezTo>
                  <a:pt x="20123" y="9259"/>
                  <a:pt x="20140" y="9261"/>
                  <a:pt x="20265" y="9351"/>
                </a:cubicBezTo>
                <a:cubicBezTo>
                  <a:pt x="20201" y="9521"/>
                  <a:pt x="20130" y="9663"/>
                  <a:pt x="20042" y="9823"/>
                </a:cubicBezTo>
                <a:cubicBezTo>
                  <a:pt x="20184" y="9860"/>
                  <a:pt x="20263" y="9854"/>
                  <a:pt x="20414" y="9823"/>
                </a:cubicBezTo>
              </a:path>
              <a:path w="2631" h="3499">
                <a:moveTo>
                  <a:pt x="18926" y="10492"/>
                </a:moveTo>
                <a:cubicBezTo>
                  <a:pt x="18926" y="10451"/>
                  <a:pt x="18926" y="10443"/>
                  <a:pt x="18926" y="10418"/>
                </a:cubicBezTo>
                <a:cubicBezTo>
                  <a:pt x="18926" y="10575"/>
                  <a:pt x="18926" y="10732"/>
                  <a:pt x="18926" y="10889"/>
                </a:cubicBezTo>
              </a:path>
              <a:path w="2631" h="3499">
                <a:moveTo>
                  <a:pt x="19174" y="10492"/>
                </a:moveTo>
                <a:cubicBezTo>
                  <a:pt x="19166" y="10525"/>
                  <a:pt x="19157" y="10559"/>
                  <a:pt x="19149" y="10592"/>
                </a:cubicBezTo>
                <a:cubicBezTo>
                  <a:pt x="19268" y="10659"/>
                  <a:pt x="19343" y="10623"/>
                  <a:pt x="19472" y="10592"/>
                </a:cubicBezTo>
              </a:path>
              <a:path w="2631" h="3499">
                <a:moveTo>
                  <a:pt x="19372" y="10418"/>
                </a:moveTo>
                <a:cubicBezTo>
                  <a:pt x="19361" y="10580"/>
                  <a:pt x="19358" y="10682"/>
                  <a:pt x="19397" y="10840"/>
                </a:cubicBezTo>
              </a:path>
              <a:path w="2631" h="3499">
                <a:moveTo>
                  <a:pt x="19621" y="10368"/>
                </a:moveTo>
                <a:cubicBezTo>
                  <a:pt x="19633" y="10463"/>
                  <a:pt x="19631" y="10500"/>
                  <a:pt x="19621" y="10592"/>
                </a:cubicBezTo>
                <a:cubicBezTo>
                  <a:pt x="19755" y="10618"/>
                  <a:pt x="19805" y="10623"/>
                  <a:pt x="19893" y="10567"/>
                </a:cubicBezTo>
              </a:path>
              <a:path w="2631" h="3499">
                <a:moveTo>
                  <a:pt x="19918" y="10319"/>
                </a:moveTo>
                <a:cubicBezTo>
                  <a:pt x="19879" y="10530"/>
                  <a:pt x="19904" y="10699"/>
                  <a:pt x="19918" y="10914"/>
                </a:cubicBezTo>
              </a:path>
              <a:path w="2631" h="3499">
                <a:moveTo>
                  <a:pt x="18752" y="11237"/>
                </a:moveTo>
                <a:cubicBezTo>
                  <a:pt x="19046" y="11327"/>
                  <a:pt x="19310" y="11358"/>
                  <a:pt x="19621" y="11311"/>
                </a:cubicBezTo>
                <a:cubicBezTo>
                  <a:pt x="19983" y="11257"/>
                  <a:pt x="20332" y="11127"/>
                  <a:pt x="20538" y="10815"/>
                </a:cubicBezTo>
                <a:cubicBezTo>
                  <a:pt x="20667" y="10619"/>
                  <a:pt x="20684" y="10439"/>
                  <a:pt x="20513" y="10269"/>
                </a:cubicBezTo>
                <a:cubicBezTo>
                  <a:pt x="20387" y="10144"/>
                  <a:pt x="20163" y="10110"/>
                  <a:pt x="19993" y="10096"/>
                </a:cubicBezTo>
                <a:cubicBezTo>
                  <a:pt x="19820" y="10081"/>
                  <a:pt x="19642" y="10093"/>
                  <a:pt x="19472" y="10120"/>
                </a:cubicBezTo>
                <a:cubicBezTo>
                  <a:pt x="19309" y="10146"/>
                  <a:pt x="19178" y="10193"/>
                  <a:pt x="19025" y="10244"/>
                </a:cubicBezTo>
                <a:cubicBezTo>
                  <a:pt x="18898" y="10286"/>
                  <a:pt x="18739" y="10339"/>
                  <a:pt x="18628" y="10418"/>
                </a:cubicBezTo>
                <a:cubicBezTo>
                  <a:pt x="18536" y="10484"/>
                  <a:pt x="18424" y="10657"/>
                  <a:pt x="18405" y="10765"/>
                </a:cubicBezTo>
                <a:cubicBezTo>
                  <a:pt x="18385" y="10882"/>
                  <a:pt x="18432" y="11027"/>
                  <a:pt x="18529" y="11088"/>
                </a:cubicBezTo>
                <a:cubicBezTo>
                  <a:pt x="18705" y="11198"/>
                  <a:pt x="18922" y="11205"/>
                  <a:pt x="19124" y="11187"/>
                </a:cubicBezTo>
                <a:cubicBezTo>
                  <a:pt x="19256" y="11165"/>
                  <a:pt x="19288" y="11157"/>
                  <a:pt x="19372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760" y="5249880"/>
            <a:ext cx="635040" cy="876240"/>
          </a:xfrm>
          <a:custGeom>
            <a:avLst/>
            <a:gdLst/>
            <a:ahLst/>
            <a:rect l="l" t="t" r="r" b="b"/>
            <a:pathLst>
              <a:path w="1762" h="2432">
                <a:moveTo>
                  <a:pt x="1215" y="14808"/>
                </a:moveTo>
                <a:cubicBezTo>
                  <a:pt x="1316" y="14842"/>
                  <a:pt x="1255" y="15002"/>
                  <a:pt x="1215" y="15106"/>
                </a:cubicBezTo>
                <a:cubicBezTo>
                  <a:pt x="1207" y="15114"/>
                  <a:pt x="1199" y="15123"/>
                  <a:pt x="1191" y="15131"/>
                </a:cubicBezTo>
                <a:cubicBezTo>
                  <a:pt x="1201" y="14993"/>
                  <a:pt x="1200" y="14974"/>
                  <a:pt x="1315" y="14908"/>
                </a:cubicBezTo>
                <a:cubicBezTo>
                  <a:pt x="1396" y="14861"/>
                  <a:pt x="1397" y="14858"/>
                  <a:pt x="1488" y="14858"/>
                </a:cubicBezTo>
                <a:cubicBezTo>
                  <a:pt x="1524" y="14983"/>
                  <a:pt x="1397" y="15249"/>
                  <a:pt x="1339" y="15379"/>
                </a:cubicBezTo>
                <a:cubicBezTo>
                  <a:pt x="1314" y="15420"/>
                  <a:pt x="1290" y="15462"/>
                  <a:pt x="1265" y="15503"/>
                </a:cubicBezTo>
              </a:path>
              <a:path w="1762" h="2432">
                <a:moveTo>
                  <a:pt x="1761" y="15131"/>
                </a:moveTo>
                <a:cubicBezTo>
                  <a:pt x="1842" y="15246"/>
                  <a:pt x="1888" y="15322"/>
                  <a:pt x="1935" y="15453"/>
                </a:cubicBezTo>
              </a:path>
              <a:path w="1762" h="2432">
                <a:moveTo>
                  <a:pt x="2009" y="15032"/>
                </a:moveTo>
                <a:cubicBezTo>
                  <a:pt x="1949" y="15186"/>
                  <a:pt x="1880" y="15347"/>
                  <a:pt x="1836" y="15503"/>
                </a:cubicBezTo>
              </a:path>
              <a:path w="1762" h="2432">
                <a:moveTo>
                  <a:pt x="2629" y="14982"/>
                </a:moveTo>
                <a:cubicBezTo>
                  <a:pt x="2646" y="14849"/>
                  <a:pt x="2656" y="14800"/>
                  <a:pt x="2604" y="14660"/>
                </a:cubicBezTo>
                <a:cubicBezTo>
                  <a:pt x="2577" y="14603"/>
                  <a:pt x="2561" y="14584"/>
                  <a:pt x="2505" y="14585"/>
                </a:cubicBezTo>
                <a:cubicBezTo>
                  <a:pt x="2453" y="14637"/>
                  <a:pt x="2243" y="14892"/>
                  <a:pt x="2406" y="14957"/>
                </a:cubicBezTo>
                <a:cubicBezTo>
                  <a:pt x="2578" y="15025"/>
                  <a:pt x="2677" y="14844"/>
                  <a:pt x="2753" y="14734"/>
                </a:cubicBezTo>
                <a:cubicBezTo>
                  <a:pt x="2753" y="14606"/>
                  <a:pt x="2718" y="14880"/>
                  <a:pt x="2704" y="15007"/>
                </a:cubicBezTo>
                <a:cubicBezTo>
                  <a:pt x="2686" y="15167"/>
                  <a:pt x="2682" y="15285"/>
                  <a:pt x="2629" y="15429"/>
                </a:cubicBezTo>
              </a:path>
              <a:path w="1762" h="2432">
                <a:moveTo>
                  <a:pt x="1860" y="15900"/>
                </a:moveTo>
                <a:cubicBezTo>
                  <a:pt x="1829" y="16104"/>
                  <a:pt x="1734" y="16256"/>
                  <a:pt x="1662" y="16446"/>
                </a:cubicBezTo>
                <a:cubicBezTo>
                  <a:pt x="1654" y="16479"/>
                  <a:pt x="1645" y="16512"/>
                  <a:pt x="1637" y="16545"/>
                </a:cubicBezTo>
                <a:cubicBezTo>
                  <a:pt x="1834" y="16504"/>
                  <a:pt x="1901" y="16411"/>
                  <a:pt x="2034" y="16247"/>
                </a:cubicBezTo>
                <a:cubicBezTo>
                  <a:pt x="1860" y="16247"/>
                  <a:pt x="1856" y="16348"/>
                  <a:pt x="1836" y="16520"/>
                </a:cubicBezTo>
              </a:path>
              <a:path w="1762" h="2432">
                <a:moveTo>
                  <a:pt x="2183" y="15875"/>
                </a:moveTo>
                <a:cubicBezTo>
                  <a:pt x="2360" y="16014"/>
                  <a:pt x="2331" y="16011"/>
                  <a:pt x="2183" y="16173"/>
                </a:cubicBezTo>
                <a:cubicBezTo>
                  <a:pt x="2316" y="16152"/>
                  <a:pt x="2312" y="16154"/>
                  <a:pt x="2406" y="16247"/>
                </a:cubicBezTo>
                <a:cubicBezTo>
                  <a:pt x="2312" y="16388"/>
                  <a:pt x="2296" y="16394"/>
                  <a:pt x="2133" y="16446"/>
                </a:cubicBezTo>
              </a:path>
              <a:path w="1762" h="2432">
                <a:moveTo>
                  <a:pt x="1513" y="16818"/>
                </a:moveTo>
                <a:cubicBezTo>
                  <a:pt x="1621" y="17001"/>
                  <a:pt x="1790" y="17039"/>
                  <a:pt x="2009" y="17016"/>
                </a:cubicBezTo>
                <a:cubicBezTo>
                  <a:pt x="2306" y="16984"/>
                  <a:pt x="2561" y="16845"/>
                  <a:pt x="2753" y="16619"/>
                </a:cubicBezTo>
                <a:cubicBezTo>
                  <a:pt x="2888" y="16460"/>
                  <a:pt x="2988" y="16258"/>
                  <a:pt x="2927" y="16049"/>
                </a:cubicBezTo>
                <a:cubicBezTo>
                  <a:pt x="2885" y="15905"/>
                  <a:pt x="2704" y="15882"/>
                  <a:pt x="2580" y="15825"/>
                </a:cubicBezTo>
                <a:cubicBezTo>
                  <a:pt x="2496" y="15787"/>
                  <a:pt x="2369" y="15696"/>
                  <a:pt x="2282" y="15677"/>
                </a:cubicBezTo>
                <a:cubicBezTo>
                  <a:pt x="2142" y="15646"/>
                  <a:pt x="1845" y="15644"/>
                  <a:pt x="1712" y="15701"/>
                </a:cubicBezTo>
                <a:cubicBezTo>
                  <a:pt x="1546" y="15772"/>
                  <a:pt x="1352" y="15940"/>
                  <a:pt x="1265" y="16098"/>
                </a:cubicBezTo>
                <a:cubicBezTo>
                  <a:pt x="1197" y="16221"/>
                  <a:pt x="1302" y="16357"/>
                  <a:pt x="1339" y="16470"/>
                </a:cubicBezTo>
                <a:cubicBezTo>
                  <a:pt x="1394" y="16635"/>
                  <a:pt x="1406" y="16699"/>
                  <a:pt x="1538" y="16818"/>
                </a:cubicBezTo>
                <a:cubicBezTo>
                  <a:pt x="1603" y="16877"/>
                  <a:pt x="1627" y="16867"/>
                  <a:pt x="1712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51080" y="5241960"/>
            <a:ext cx="722160" cy="893880"/>
          </a:xfrm>
          <a:custGeom>
            <a:avLst/>
            <a:gdLst/>
            <a:ahLst/>
            <a:rect l="l" t="t" r="r" b="b"/>
            <a:pathLst>
              <a:path w="2010" h="2482">
                <a:moveTo>
                  <a:pt x="6821" y="14560"/>
                </a:moveTo>
                <a:cubicBezTo>
                  <a:pt x="6715" y="14560"/>
                  <a:pt x="6613" y="14563"/>
                  <a:pt x="6524" y="14635"/>
                </a:cubicBezTo>
                <a:cubicBezTo>
                  <a:pt x="6345" y="14778"/>
                  <a:pt x="6297" y="14905"/>
                  <a:pt x="6251" y="15106"/>
                </a:cubicBezTo>
                <a:cubicBezTo>
                  <a:pt x="6512" y="15019"/>
                  <a:pt x="6552" y="14860"/>
                  <a:pt x="6648" y="14610"/>
                </a:cubicBezTo>
                <a:cubicBezTo>
                  <a:pt x="6648" y="14618"/>
                  <a:pt x="6648" y="14627"/>
                  <a:pt x="6648" y="14635"/>
                </a:cubicBezTo>
                <a:cubicBezTo>
                  <a:pt x="6664" y="14919"/>
                  <a:pt x="6637" y="15193"/>
                  <a:pt x="6623" y="15478"/>
                </a:cubicBezTo>
              </a:path>
              <a:path w="2010" h="2482">
                <a:moveTo>
                  <a:pt x="7020" y="15156"/>
                </a:moveTo>
                <a:cubicBezTo>
                  <a:pt x="7137" y="15156"/>
                  <a:pt x="7171" y="15158"/>
                  <a:pt x="7243" y="15131"/>
                </a:cubicBezTo>
              </a:path>
              <a:path w="2010" h="2482">
                <a:moveTo>
                  <a:pt x="7863" y="14908"/>
                </a:moveTo>
                <a:cubicBezTo>
                  <a:pt x="7967" y="14871"/>
                  <a:pt x="8316" y="14750"/>
                  <a:pt x="8111" y="15032"/>
                </a:cubicBezTo>
                <a:cubicBezTo>
                  <a:pt x="8070" y="15065"/>
                  <a:pt x="8028" y="15098"/>
                  <a:pt x="7987" y="15131"/>
                </a:cubicBezTo>
                <a:cubicBezTo>
                  <a:pt x="7971" y="15139"/>
                  <a:pt x="7954" y="15148"/>
                  <a:pt x="7938" y="15156"/>
                </a:cubicBezTo>
                <a:cubicBezTo>
                  <a:pt x="8132" y="15119"/>
                  <a:pt x="8451" y="15237"/>
                  <a:pt x="8161" y="15453"/>
                </a:cubicBezTo>
                <a:cubicBezTo>
                  <a:pt x="8087" y="15478"/>
                  <a:pt x="8012" y="15503"/>
                  <a:pt x="7938" y="15528"/>
                </a:cubicBezTo>
              </a:path>
              <a:path w="2010" h="2482">
                <a:moveTo>
                  <a:pt x="7342" y="15974"/>
                </a:moveTo>
                <a:cubicBezTo>
                  <a:pt x="7335" y="16042"/>
                  <a:pt x="7229" y="16499"/>
                  <a:pt x="7466" y="16396"/>
                </a:cubicBezTo>
                <a:cubicBezTo>
                  <a:pt x="7631" y="16324"/>
                  <a:pt x="7624" y="16213"/>
                  <a:pt x="7615" y="16073"/>
                </a:cubicBezTo>
                <a:cubicBezTo>
                  <a:pt x="7486" y="16193"/>
                  <a:pt x="7465" y="16254"/>
                  <a:pt x="7417" y="16421"/>
                </a:cubicBezTo>
              </a:path>
              <a:path w="2010" h="2482">
                <a:moveTo>
                  <a:pt x="7119" y="16867"/>
                </a:moveTo>
                <a:cubicBezTo>
                  <a:pt x="7484" y="16947"/>
                  <a:pt x="7832" y="16849"/>
                  <a:pt x="8111" y="16545"/>
                </a:cubicBezTo>
                <a:cubicBezTo>
                  <a:pt x="8405" y="16224"/>
                  <a:pt x="8189" y="15942"/>
                  <a:pt x="7838" y="15850"/>
                </a:cubicBezTo>
                <a:cubicBezTo>
                  <a:pt x="7350" y="15722"/>
                  <a:pt x="6896" y="15867"/>
                  <a:pt x="6846" y="16421"/>
                </a:cubicBezTo>
                <a:cubicBezTo>
                  <a:pt x="6800" y="16936"/>
                  <a:pt x="7099" y="16933"/>
                  <a:pt x="7466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52960" y="5214960"/>
            <a:ext cx="1295280" cy="339840"/>
          </a:xfrm>
          <a:custGeom>
            <a:avLst/>
            <a:gdLst/>
            <a:ahLst/>
            <a:rect l="l" t="t" r="r" b="b"/>
            <a:pathLst>
              <a:path w="3598" h="944">
                <a:moveTo>
                  <a:pt x="11584" y="14759"/>
                </a:moveTo>
                <a:cubicBezTo>
                  <a:pt x="11668" y="14702"/>
                  <a:pt x="11705" y="14683"/>
                  <a:pt x="11782" y="14684"/>
                </a:cubicBezTo>
                <a:cubicBezTo>
                  <a:pt x="11905" y="14859"/>
                  <a:pt x="11909" y="15208"/>
                  <a:pt x="11584" y="15255"/>
                </a:cubicBezTo>
                <a:cubicBezTo>
                  <a:pt x="11567" y="15230"/>
                  <a:pt x="11551" y="15205"/>
                  <a:pt x="11534" y="15180"/>
                </a:cubicBezTo>
                <a:cubicBezTo>
                  <a:pt x="11611" y="14993"/>
                  <a:pt x="11689" y="14963"/>
                  <a:pt x="11857" y="15131"/>
                </a:cubicBezTo>
                <a:cubicBezTo>
                  <a:pt x="11865" y="15147"/>
                  <a:pt x="11873" y="15164"/>
                  <a:pt x="11881" y="15180"/>
                </a:cubicBezTo>
              </a:path>
              <a:path w="3598" h="944">
                <a:moveTo>
                  <a:pt x="12179" y="14486"/>
                </a:moveTo>
                <a:cubicBezTo>
                  <a:pt x="12123" y="14732"/>
                  <a:pt x="12021" y="15055"/>
                  <a:pt x="12204" y="15280"/>
                </a:cubicBezTo>
                <a:cubicBezTo>
                  <a:pt x="12237" y="15296"/>
                  <a:pt x="12270" y="15313"/>
                  <a:pt x="12303" y="15329"/>
                </a:cubicBezTo>
              </a:path>
              <a:path w="3598" h="944">
                <a:moveTo>
                  <a:pt x="12700" y="14833"/>
                </a:moveTo>
                <a:cubicBezTo>
                  <a:pt x="12700" y="14732"/>
                  <a:pt x="12699" y="14698"/>
                  <a:pt x="12626" y="14660"/>
                </a:cubicBezTo>
                <a:cubicBezTo>
                  <a:pt x="12493" y="14691"/>
                  <a:pt x="12216" y="14871"/>
                  <a:pt x="12402" y="15056"/>
                </a:cubicBezTo>
                <a:cubicBezTo>
                  <a:pt x="12507" y="15160"/>
                  <a:pt x="12588" y="14942"/>
                  <a:pt x="12650" y="14808"/>
                </a:cubicBezTo>
                <a:cubicBezTo>
                  <a:pt x="12684" y="14965"/>
                  <a:pt x="12725" y="15094"/>
                  <a:pt x="12725" y="15255"/>
                </a:cubicBezTo>
              </a:path>
              <a:path w="3598" h="944">
                <a:moveTo>
                  <a:pt x="12725" y="14536"/>
                </a:moveTo>
                <a:cubicBezTo>
                  <a:pt x="12910" y="14754"/>
                  <a:pt x="13108" y="14995"/>
                  <a:pt x="12948" y="15304"/>
                </a:cubicBezTo>
                <a:cubicBezTo>
                  <a:pt x="12907" y="15346"/>
                  <a:pt x="12865" y="15387"/>
                  <a:pt x="12824" y="15429"/>
                </a:cubicBezTo>
              </a:path>
              <a:path w="3598" h="944">
                <a:moveTo>
                  <a:pt x="13494" y="14808"/>
                </a:moveTo>
                <a:cubicBezTo>
                  <a:pt x="13513" y="14954"/>
                  <a:pt x="13530" y="15089"/>
                  <a:pt x="13568" y="15230"/>
                </a:cubicBezTo>
              </a:path>
              <a:path w="3598" h="944">
                <a:moveTo>
                  <a:pt x="13370" y="15131"/>
                </a:moveTo>
                <a:cubicBezTo>
                  <a:pt x="13504" y="15094"/>
                  <a:pt x="13631" y="15060"/>
                  <a:pt x="13767" y="15032"/>
                </a:cubicBezTo>
              </a:path>
              <a:path w="3598" h="944">
                <a:moveTo>
                  <a:pt x="13965" y="14808"/>
                </a:moveTo>
                <a:cubicBezTo>
                  <a:pt x="13965" y="14874"/>
                  <a:pt x="13965" y="14941"/>
                  <a:pt x="13965" y="15007"/>
                </a:cubicBezTo>
                <a:cubicBezTo>
                  <a:pt x="14071" y="15037"/>
                  <a:pt x="14104" y="14990"/>
                  <a:pt x="14213" y="14932"/>
                </a:cubicBezTo>
              </a:path>
              <a:path w="3598" h="944">
                <a:moveTo>
                  <a:pt x="14213" y="14610"/>
                </a:moveTo>
                <a:cubicBezTo>
                  <a:pt x="14190" y="14834"/>
                  <a:pt x="14229" y="15053"/>
                  <a:pt x="14263" y="15280"/>
                </a:cubicBezTo>
              </a:path>
              <a:path w="3598" h="944">
                <a:moveTo>
                  <a:pt x="14436" y="15230"/>
                </a:moveTo>
                <a:lnTo>
                  <a:pt x="14436" y="15230"/>
                </a:lnTo>
              </a:path>
              <a:path w="3598" h="944">
                <a:moveTo>
                  <a:pt x="14660" y="14784"/>
                </a:moveTo>
                <a:cubicBezTo>
                  <a:pt x="14789" y="14719"/>
                  <a:pt x="14820" y="14684"/>
                  <a:pt x="14957" y="14709"/>
                </a:cubicBezTo>
                <a:cubicBezTo>
                  <a:pt x="14936" y="14911"/>
                  <a:pt x="14895" y="15005"/>
                  <a:pt x="14759" y="15156"/>
                </a:cubicBezTo>
                <a:cubicBezTo>
                  <a:pt x="14885" y="15148"/>
                  <a:pt x="15006" y="15129"/>
                  <a:pt x="1513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21080" y="5769000"/>
            <a:ext cx="770040" cy="231840"/>
          </a:xfrm>
          <a:custGeom>
            <a:avLst/>
            <a:gdLst/>
            <a:ahLst/>
            <a:rect l="l" t="t" r="r" b="b"/>
            <a:pathLst>
              <a:path w="2135" h="646">
                <a:moveTo>
                  <a:pt x="12005" y="16024"/>
                </a:moveTo>
                <a:cubicBezTo>
                  <a:pt x="12050" y="16245"/>
                  <a:pt x="12080" y="16444"/>
                  <a:pt x="12080" y="16669"/>
                </a:cubicBezTo>
              </a:path>
              <a:path w="2135" h="646">
                <a:moveTo>
                  <a:pt x="12551" y="16123"/>
                </a:moveTo>
                <a:cubicBezTo>
                  <a:pt x="12381" y="16271"/>
                  <a:pt x="12341" y="16271"/>
                  <a:pt x="12526" y="16396"/>
                </a:cubicBezTo>
                <a:cubicBezTo>
                  <a:pt x="12619" y="16465"/>
                  <a:pt x="12653" y="16482"/>
                  <a:pt x="12626" y="16570"/>
                </a:cubicBezTo>
                <a:cubicBezTo>
                  <a:pt x="12601" y="16586"/>
                  <a:pt x="12576" y="16603"/>
                  <a:pt x="12551" y="16619"/>
                </a:cubicBezTo>
                <a:cubicBezTo>
                  <a:pt x="12454" y="16488"/>
                  <a:pt x="12535" y="16318"/>
                  <a:pt x="12576" y="16148"/>
                </a:cubicBezTo>
              </a:path>
              <a:path w="2135" h="646">
                <a:moveTo>
                  <a:pt x="12948" y="16073"/>
                </a:moveTo>
                <a:cubicBezTo>
                  <a:pt x="13015" y="16214"/>
                  <a:pt x="13063" y="16366"/>
                  <a:pt x="13097" y="16520"/>
                </a:cubicBezTo>
              </a:path>
              <a:path w="2135" h="646">
                <a:moveTo>
                  <a:pt x="12948" y="16321"/>
                </a:moveTo>
                <a:cubicBezTo>
                  <a:pt x="12989" y="16296"/>
                  <a:pt x="13031" y="16272"/>
                  <a:pt x="13072" y="16247"/>
                </a:cubicBezTo>
              </a:path>
              <a:path w="2135" h="646">
                <a:moveTo>
                  <a:pt x="13395" y="16073"/>
                </a:moveTo>
                <a:cubicBezTo>
                  <a:pt x="13413" y="16156"/>
                  <a:pt x="13408" y="16437"/>
                  <a:pt x="13543" y="16421"/>
                </a:cubicBezTo>
                <a:cubicBezTo>
                  <a:pt x="13695" y="16403"/>
                  <a:pt x="13794" y="16294"/>
                  <a:pt x="13891" y="16197"/>
                </a:cubicBezTo>
              </a:path>
              <a:path w="2135" h="646">
                <a:moveTo>
                  <a:pt x="13692" y="16049"/>
                </a:moveTo>
                <a:cubicBezTo>
                  <a:pt x="13724" y="16258"/>
                  <a:pt x="13782" y="16464"/>
                  <a:pt x="13816" y="16669"/>
                </a:cubicBezTo>
              </a:path>
              <a:path w="2135" h="646">
                <a:moveTo>
                  <a:pt x="14139" y="16495"/>
                </a:moveTo>
                <a:lnTo>
                  <a:pt x="14139" y="164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14960" y="5769000"/>
            <a:ext cx="17928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4486" y="16073"/>
                </a:moveTo>
                <a:cubicBezTo>
                  <a:pt x="14598" y="16039"/>
                  <a:pt x="14615" y="16026"/>
                  <a:pt x="14709" y="16073"/>
                </a:cubicBezTo>
                <a:cubicBezTo>
                  <a:pt x="14740" y="16225"/>
                  <a:pt x="14644" y="16304"/>
                  <a:pt x="14585" y="16446"/>
                </a:cubicBezTo>
                <a:cubicBezTo>
                  <a:pt x="14585" y="16454"/>
                  <a:pt x="14585" y="16462"/>
                  <a:pt x="14585" y="16470"/>
                </a:cubicBezTo>
                <a:cubicBezTo>
                  <a:pt x="14722" y="16455"/>
                  <a:pt x="14842" y="16421"/>
                  <a:pt x="14982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03800" y="6170760"/>
            <a:ext cx="1312920" cy="527040"/>
          </a:xfrm>
          <a:custGeom>
            <a:avLst/>
            <a:gdLst/>
            <a:ahLst/>
            <a:rect l="l" t="t" r="r" b="b"/>
            <a:pathLst>
              <a:path w="3647" h="1465">
                <a:moveTo>
                  <a:pt x="12626" y="17512"/>
                </a:moveTo>
                <a:cubicBezTo>
                  <a:pt x="12761" y="17512"/>
                  <a:pt x="12948" y="17514"/>
                  <a:pt x="12948" y="17711"/>
                </a:cubicBezTo>
                <a:cubicBezTo>
                  <a:pt x="12948" y="17955"/>
                  <a:pt x="12693" y="18067"/>
                  <a:pt x="12526" y="18033"/>
                </a:cubicBezTo>
                <a:cubicBezTo>
                  <a:pt x="12579" y="17853"/>
                  <a:pt x="12719" y="17675"/>
                  <a:pt x="12923" y="17859"/>
                </a:cubicBezTo>
                <a:cubicBezTo>
                  <a:pt x="12964" y="17940"/>
                  <a:pt x="12980" y="17953"/>
                  <a:pt x="12973" y="18008"/>
                </a:cubicBezTo>
              </a:path>
              <a:path w="3647" h="1465">
                <a:moveTo>
                  <a:pt x="13146" y="17462"/>
                </a:moveTo>
                <a:cubicBezTo>
                  <a:pt x="13320" y="17471"/>
                  <a:pt x="13489" y="17459"/>
                  <a:pt x="13494" y="17686"/>
                </a:cubicBezTo>
                <a:cubicBezTo>
                  <a:pt x="13499" y="17921"/>
                  <a:pt x="13305" y="17947"/>
                  <a:pt x="13146" y="17909"/>
                </a:cubicBezTo>
                <a:cubicBezTo>
                  <a:pt x="13183" y="17725"/>
                  <a:pt x="13266" y="17688"/>
                  <a:pt x="13444" y="17810"/>
                </a:cubicBezTo>
                <a:cubicBezTo>
                  <a:pt x="13507" y="17872"/>
                  <a:pt x="13525" y="17882"/>
                  <a:pt x="13543" y="17934"/>
                </a:cubicBezTo>
              </a:path>
              <a:path w="3647" h="1465">
                <a:moveTo>
                  <a:pt x="13816" y="17835"/>
                </a:moveTo>
                <a:cubicBezTo>
                  <a:pt x="13816" y="17851"/>
                  <a:pt x="13816" y="17868"/>
                  <a:pt x="13816" y="17884"/>
                </a:cubicBezTo>
              </a:path>
              <a:path w="3647" h="1465">
                <a:moveTo>
                  <a:pt x="14238" y="17487"/>
                </a:moveTo>
                <a:cubicBezTo>
                  <a:pt x="14372" y="17371"/>
                  <a:pt x="14517" y="17425"/>
                  <a:pt x="14585" y="17611"/>
                </a:cubicBezTo>
                <a:cubicBezTo>
                  <a:pt x="14641" y="17764"/>
                  <a:pt x="14481" y="17794"/>
                  <a:pt x="14387" y="17835"/>
                </a:cubicBezTo>
                <a:cubicBezTo>
                  <a:pt x="14437" y="17672"/>
                  <a:pt x="14577" y="17679"/>
                  <a:pt x="14709" y="17835"/>
                </a:cubicBezTo>
                <a:cubicBezTo>
                  <a:pt x="14717" y="17860"/>
                  <a:pt x="14726" y="17884"/>
                  <a:pt x="14734" y="17909"/>
                </a:cubicBezTo>
              </a:path>
              <a:path w="3647" h="1465">
                <a:moveTo>
                  <a:pt x="13022" y="18579"/>
                </a:moveTo>
                <a:cubicBezTo>
                  <a:pt x="13204" y="18599"/>
                  <a:pt x="13383" y="18616"/>
                  <a:pt x="13568" y="18604"/>
                </a:cubicBezTo>
                <a:cubicBezTo>
                  <a:pt x="13936" y="18581"/>
                  <a:pt x="14277" y="18510"/>
                  <a:pt x="14635" y="18430"/>
                </a:cubicBezTo>
                <a:cubicBezTo>
                  <a:pt x="14917" y="18367"/>
                  <a:pt x="15147" y="18317"/>
                  <a:pt x="15379" y="18132"/>
                </a:cubicBezTo>
                <a:cubicBezTo>
                  <a:pt x="15491" y="18042"/>
                  <a:pt x="15626" y="17869"/>
                  <a:pt x="15602" y="17711"/>
                </a:cubicBezTo>
                <a:cubicBezTo>
                  <a:pt x="15577" y="17545"/>
                  <a:pt x="15441" y="17418"/>
                  <a:pt x="15304" y="17338"/>
                </a:cubicBezTo>
                <a:cubicBezTo>
                  <a:pt x="15127" y="17234"/>
                  <a:pt x="14888" y="17161"/>
                  <a:pt x="14684" y="17140"/>
                </a:cubicBezTo>
                <a:cubicBezTo>
                  <a:pt x="14490" y="17120"/>
                  <a:pt x="14285" y="17186"/>
                  <a:pt x="14089" y="17190"/>
                </a:cubicBezTo>
                <a:cubicBezTo>
                  <a:pt x="13856" y="17195"/>
                  <a:pt x="13626" y="17199"/>
                  <a:pt x="13395" y="17214"/>
                </a:cubicBezTo>
                <a:cubicBezTo>
                  <a:pt x="13218" y="17226"/>
                  <a:pt x="13050" y="17258"/>
                  <a:pt x="12874" y="17289"/>
                </a:cubicBezTo>
                <a:cubicBezTo>
                  <a:pt x="12666" y="17326"/>
                  <a:pt x="12479" y="17400"/>
                  <a:pt x="12303" y="17512"/>
                </a:cubicBezTo>
                <a:cubicBezTo>
                  <a:pt x="12211" y="17571"/>
                  <a:pt x="12114" y="17616"/>
                  <a:pt x="12030" y="17686"/>
                </a:cubicBezTo>
                <a:cubicBezTo>
                  <a:pt x="11960" y="17744"/>
                  <a:pt x="11952" y="17762"/>
                  <a:pt x="11956" y="17859"/>
                </a:cubicBezTo>
                <a:cubicBezTo>
                  <a:pt x="11960" y="17956"/>
                  <a:pt x="11984" y="18069"/>
                  <a:pt x="12030" y="18157"/>
                </a:cubicBezTo>
                <a:cubicBezTo>
                  <a:pt x="12077" y="18247"/>
                  <a:pt x="12194" y="18377"/>
                  <a:pt x="12278" y="18430"/>
                </a:cubicBezTo>
                <a:cubicBezTo>
                  <a:pt x="12396" y="18504"/>
                  <a:pt x="12570" y="18479"/>
                  <a:pt x="12700" y="18479"/>
                </a:cubicBezTo>
                <a:cubicBezTo>
                  <a:pt x="12983" y="18479"/>
                  <a:pt x="13303" y="18450"/>
                  <a:pt x="13568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9080" y="2759040"/>
            <a:ext cx="115920" cy="2142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2353" y="7714"/>
                </a:moveTo>
                <a:cubicBezTo>
                  <a:pt x="12498" y="7669"/>
                  <a:pt x="12667" y="7674"/>
                  <a:pt x="12526" y="7888"/>
                </a:cubicBezTo>
                <a:cubicBezTo>
                  <a:pt x="12493" y="7921"/>
                  <a:pt x="12460" y="7954"/>
                  <a:pt x="12427" y="7987"/>
                </a:cubicBezTo>
                <a:cubicBezTo>
                  <a:pt x="12394" y="7995"/>
                  <a:pt x="12361" y="8004"/>
                  <a:pt x="12328" y="8012"/>
                </a:cubicBezTo>
                <a:cubicBezTo>
                  <a:pt x="12409" y="7989"/>
                  <a:pt x="12792" y="7971"/>
                  <a:pt x="12576" y="8161"/>
                </a:cubicBezTo>
                <a:cubicBezTo>
                  <a:pt x="12439" y="8229"/>
                  <a:pt x="12402" y="8251"/>
                  <a:pt x="12303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6280" y="2741760"/>
            <a:ext cx="90720" cy="196560"/>
          </a:xfrm>
          <a:custGeom>
            <a:avLst/>
            <a:gdLst/>
            <a:ahLst/>
            <a:rect l="l" t="t" r="r" b="b"/>
            <a:pathLst>
              <a:path w="249" h="547">
                <a:moveTo>
                  <a:pt x="12898" y="7615"/>
                </a:moveTo>
                <a:cubicBezTo>
                  <a:pt x="12737" y="7795"/>
                  <a:pt x="12912" y="7815"/>
                  <a:pt x="13022" y="7987"/>
                </a:cubicBezTo>
                <a:cubicBezTo>
                  <a:pt x="13064" y="8092"/>
                  <a:pt x="13096" y="8118"/>
                  <a:pt x="13022" y="8161"/>
                </a:cubicBezTo>
                <a:cubicBezTo>
                  <a:pt x="12772" y="8107"/>
                  <a:pt x="12922" y="7957"/>
                  <a:pt x="12998" y="7764"/>
                </a:cubicBezTo>
                <a:cubicBezTo>
                  <a:pt x="13006" y="7739"/>
                  <a:pt x="13014" y="7714"/>
                  <a:pt x="1302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7840" y="2795760"/>
            <a:ext cx="9360" cy="1062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3494" y="7764"/>
                </a:moveTo>
                <a:cubicBezTo>
                  <a:pt x="13502" y="7864"/>
                  <a:pt x="13513" y="7962"/>
                  <a:pt x="13519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13200" y="285768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3370" y="7962"/>
                </a:moveTo>
                <a:cubicBezTo>
                  <a:pt x="13455" y="7957"/>
                  <a:pt x="13534" y="7946"/>
                  <a:pt x="13618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37120" y="2795760"/>
            <a:ext cx="44640" cy="18720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13990" y="7764"/>
                </a:moveTo>
                <a:cubicBezTo>
                  <a:pt x="14015" y="7943"/>
                  <a:pt x="14052" y="8117"/>
                  <a:pt x="14114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60960" y="2786040"/>
            <a:ext cx="169920" cy="152280"/>
          </a:xfrm>
          <a:custGeom>
            <a:avLst/>
            <a:gdLst/>
            <a:ahLst/>
            <a:rect l="l" t="t" r="r" b="b"/>
            <a:pathLst>
              <a:path w="472" h="423">
                <a:moveTo>
                  <a:pt x="14337" y="7789"/>
                </a:moveTo>
                <a:cubicBezTo>
                  <a:pt x="14450" y="7765"/>
                  <a:pt x="14546" y="7746"/>
                  <a:pt x="14660" y="7739"/>
                </a:cubicBezTo>
                <a:cubicBezTo>
                  <a:pt x="14659" y="7916"/>
                  <a:pt x="14555" y="7961"/>
                  <a:pt x="14461" y="8111"/>
                </a:cubicBezTo>
                <a:cubicBezTo>
                  <a:pt x="14461" y="8139"/>
                  <a:pt x="14463" y="8150"/>
                  <a:pt x="14486" y="8161"/>
                </a:cubicBezTo>
                <a:cubicBezTo>
                  <a:pt x="14595" y="8151"/>
                  <a:pt x="14700" y="8122"/>
                  <a:pt x="14808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0000" y="315288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3320" y="8756"/>
                </a:moveTo>
                <a:cubicBezTo>
                  <a:pt x="13150" y="8772"/>
                  <a:pt x="13057" y="8730"/>
                  <a:pt x="13022" y="8905"/>
                </a:cubicBezTo>
                <a:cubicBezTo>
                  <a:pt x="13022" y="8989"/>
                  <a:pt x="13028" y="9009"/>
                  <a:pt x="12998" y="9054"/>
                </a:cubicBezTo>
                <a:cubicBezTo>
                  <a:pt x="13167" y="9030"/>
                  <a:pt x="13322" y="8933"/>
                  <a:pt x="13469" y="9079"/>
                </a:cubicBezTo>
                <a:cubicBezTo>
                  <a:pt x="13674" y="9284"/>
                  <a:pt x="13183" y="9235"/>
                  <a:pt x="1314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1840" y="3143160"/>
            <a:ext cx="98280" cy="162000"/>
          </a:xfrm>
          <a:custGeom>
            <a:avLst/>
            <a:gdLst/>
            <a:ahLst/>
            <a:rect l="l" t="t" r="r" b="b"/>
            <a:pathLst>
              <a:path w="273" h="448">
                <a:moveTo>
                  <a:pt x="13791" y="8731"/>
                </a:moveTo>
                <a:cubicBezTo>
                  <a:pt x="13666" y="8899"/>
                  <a:pt x="13611" y="8985"/>
                  <a:pt x="13692" y="9178"/>
                </a:cubicBezTo>
                <a:cubicBezTo>
                  <a:pt x="13912" y="9050"/>
                  <a:pt x="13979" y="8985"/>
                  <a:pt x="13816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84800" y="2990880"/>
            <a:ext cx="849240" cy="563400"/>
          </a:xfrm>
          <a:custGeom>
            <a:avLst/>
            <a:gdLst/>
            <a:ahLst/>
            <a:rect l="l" t="t" r="r" b="b"/>
            <a:pathLst>
              <a:path w="2358" h="1563">
                <a:moveTo>
                  <a:pt x="12626" y="9599"/>
                </a:moveTo>
                <a:cubicBezTo>
                  <a:pt x="13046" y="9761"/>
                  <a:pt x="13511" y="9899"/>
                  <a:pt x="13965" y="9748"/>
                </a:cubicBezTo>
                <a:cubicBezTo>
                  <a:pt x="14366" y="9615"/>
                  <a:pt x="14734" y="9182"/>
                  <a:pt x="14387" y="8806"/>
                </a:cubicBezTo>
                <a:cubicBezTo>
                  <a:pt x="14097" y="8492"/>
                  <a:pt x="13461" y="8203"/>
                  <a:pt x="13022" y="8310"/>
                </a:cubicBezTo>
                <a:cubicBezTo>
                  <a:pt x="12496" y="8438"/>
                  <a:pt x="12113" y="9108"/>
                  <a:pt x="12179" y="9624"/>
                </a:cubicBezTo>
                <a:cubicBezTo>
                  <a:pt x="12334" y="9903"/>
                  <a:pt x="12440" y="9981"/>
                  <a:pt x="12750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3760" y="5224320"/>
            <a:ext cx="169560" cy="2048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20315" y="14635"/>
                </a:moveTo>
                <a:cubicBezTo>
                  <a:pt x="20381" y="14602"/>
                  <a:pt x="20724" y="14380"/>
                  <a:pt x="20712" y="14585"/>
                </a:cubicBezTo>
                <a:cubicBezTo>
                  <a:pt x="20663" y="14706"/>
                  <a:pt x="20649" y="14745"/>
                  <a:pt x="20588" y="14808"/>
                </a:cubicBezTo>
                <a:cubicBezTo>
                  <a:pt x="20659" y="14779"/>
                  <a:pt x="20865" y="14774"/>
                  <a:pt x="20786" y="14932"/>
                </a:cubicBezTo>
                <a:cubicBezTo>
                  <a:pt x="20704" y="15097"/>
                  <a:pt x="20554" y="15063"/>
                  <a:pt x="20414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62800" y="5249880"/>
            <a:ext cx="117360" cy="2430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8256" y="14610"/>
                </a:moveTo>
                <a:cubicBezTo>
                  <a:pt x="18305" y="14600"/>
                  <a:pt x="18466" y="14549"/>
                  <a:pt x="18455" y="14660"/>
                </a:cubicBezTo>
                <a:cubicBezTo>
                  <a:pt x="18402" y="14792"/>
                  <a:pt x="18380" y="14840"/>
                  <a:pt x="18306" y="14908"/>
                </a:cubicBezTo>
                <a:cubicBezTo>
                  <a:pt x="18289" y="14916"/>
                  <a:pt x="18273" y="14924"/>
                  <a:pt x="18256" y="14932"/>
                </a:cubicBezTo>
                <a:cubicBezTo>
                  <a:pt x="18363" y="14866"/>
                  <a:pt x="18589" y="14803"/>
                  <a:pt x="18554" y="15032"/>
                </a:cubicBezTo>
                <a:cubicBezTo>
                  <a:pt x="18519" y="15264"/>
                  <a:pt x="18381" y="15228"/>
                  <a:pt x="1823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5249880"/>
            <a:ext cx="13464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8703" y="14635"/>
                </a:moveTo>
                <a:cubicBezTo>
                  <a:pt x="18828" y="14597"/>
                  <a:pt x="19100" y="14509"/>
                  <a:pt x="18951" y="14759"/>
                </a:cubicBezTo>
                <a:cubicBezTo>
                  <a:pt x="18888" y="14821"/>
                  <a:pt x="18878" y="14838"/>
                  <a:pt x="18827" y="14858"/>
                </a:cubicBezTo>
                <a:cubicBezTo>
                  <a:pt x="18875" y="14802"/>
                  <a:pt x="19075" y="14719"/>
                  <a:pt x="19075" y="14883"/>
                </a:cubicBezTo>
                <a:cubicBezTo>
                  <a:pt x="19075" y="15112"/>
                  <a:pt x="18883" y="15147"/>
                  <a:pt x="1875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6920" y="532296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9298" y="14784"/>
                </a:moveTo>
                <a:cubicBezTo>
                  <a:pt x="19405" y="14828"/>
                  <a:pt x="19480" y="14850"/>
                  <a:pt x="19596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56280" y="5249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23" y="14585"/>
                </a:moveTo>
                <a:lnTo>
                  <a:pt x="19323" y="145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00920" y="549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447" y="15255"/>
                </a:moveTo>
                <a:lnTo>
                  <a:pt x="19447" y="15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46920" y="5749920"/>
            <a:ext cx="46080" cy="233280"/>
          </a:xfrm>
          <a:custGeom>
            <a:avLst/>
            <a:gdLst/>
            <a:ahLst/>
            <a:rect l="l" t="t" r="r" b="b"/>
            <a:pathLst>
              <a:path w="125" h="646">
                <a:moveTo>
                  <a:pt x="19298" y="15974"/>
                </a:moveTo>
                <a:cubicBezTo>
                  <a:pt x="19331" y="16191"/>
                  <a:pt x="19365" y="16407"/>
                  <a:pt x="19422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34120" y="5759280"/>
            <a:ext cx="46080" cy="17964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9819" y="15999"/>
                </a:moveTo>
                <a:cubicBezTo>
                  <a:pt x="19852" y="16166"/>
                  <a:pt x="19885" y="16336"/>
                  <a:pt x="19943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5634000"/>
            <a:ext cx="617400" cy="546120"/>
          </a:xfrm>
          <a:custGeom>
            <a:avLst/>
            <a:gdLst/>
            <a:ahLst/>
            <a:rect l="l" t="t" r="r" b="b"/>
            <a:pathLst>
              <a:path w="1713" h="1514">
                <a:moveTo>
                  <a:pt x="19199" y="16991"/>
                </a:moveTo>
                <a:cubicBezTo>
                  <a:pt x="19498" y="17104"/>
                  <a:pt x="19763" y="17060"/>
                  <a:pt x="20067" y="16917"/>
                </a:cubicBezTo>
                <a:cubicBezTo>
                  <a:pt x="20325" y="16796"/>
                  <a:pt x="20567" y="16586"/>
                  <a:pt x="20613" y="16297"/>
                </a:cubicBezTo>
                <a:cubicBezTo>
                  <a:pt x="20663" y="15980"/>
                  <a:pt x="20463" y="15827"/>
                  <a:pt x="20191" y="15726"/>
                </a:cubicBezTo>
                <a:cubicBezTo>
                  <a:pt x="19900" y="15618"/>
                  <a:pt x="19631" y="15648"/>
                  <a:pt x="19348" y="15751"/>
                </a:cubicBezTo>
                <a:cubicBezTo>
                  <a:pt x="19009" y="15875"/>
                  <a:pt x="18937" y="16127"/>
                  <a:pt x="18901" y="16470"/>
                </a:cubicBezTo>
                <a:cubicBezTo>
                  <a:pt x="18869" y="16776"/>
                  <a:pt x="18979" y="17144"/>
                  <a:pt x="19348" y="17165"/>
                </a:cubicBezTo>
                <a:cubicBezTo>
                  <a:pt x="19439" y="17148"/>
                  <a:pt x="19530" y="17132"/>
                  <a:pt x="19621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numbers 11-17 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9 numbers 7-15 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20T17:42:48Z</dcterms:modified>
  <cp:revision>63</cp:revision>
  <dc:subject/>
  <dc:title>Unit 1 – Variables and Equations </dc:title>
</cp:coreProperties>
</file>